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71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49720" y="504360"/>
            <a:ext cx="3371760" cy="25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87480" y="3201840"/>
            <a:ext cx="7897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0368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92240" y="640368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8403-1CD4-429F-8783-D83DB5CD5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F70B-129F-42BF-9FBF-432619A61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DFFE-6FA2-45D3-AE04-57D2C4CDD5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316160" y="3211560"/>
            <a:ext cx="724032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4164-1FD1-4B40-A8E5-D90237E077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7F10-053E-4576-BEDB-BEA0ECA04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2E4B-E6FE-4633-A2A6-EE43C2140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6EF4-C806-4AB4-B951-51A2D9B1E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312920" y="3211200"/>
            <a:ext cx="7246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636B-9F0C-44C0-A500-8EDE0F0D3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1E90-2A3D-422F-BB2D-52C0A4126F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12920" y="3211200"/>
            <a:ext cx="7246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F012-0B13-4813-9D3E-641AF2A588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451E-F280-4E1A-8F17-64281472B3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780F-64D9-41F2-BA7E-B0CC538A83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76E3-C73A-4332-BC1C-9A83809DB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D31D-8858-42A4-8A41-B5DEBE7488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8132-9F93-4767-83A6-EF9A19D11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17EE-0C81-47A9-97DC-46DACC7847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FD6A-641C-4EDF-9550-E7FF9DDAD3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B309-B3F1-45B3-B664-7C586879C1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AE38-104F-4ADA-9AD5-6BF411B8C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E38A-1DA4-43DF-AAA5-FDA7CFF4F5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06C9-1703-4009-8418-C12DDB742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006-EC2C-449D-9FBB-FB809CB81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4D5-42D3-4E93-86BB-4E3F9A24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2E0-40BA-477F-8904-70F4554B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379-0B1C-4E2C-B6A8-4ADA558C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365-570F-4D17-9B48-D7EB404E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F5B-B299-4947-8878-3FE783BB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578-B8E7-4FD1-B24E-40A6CA6F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1E7-B41E-4885-83AB-FB5E3FFE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242-64D8-44E2-AAEF-71A8F997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5BA-3B9B-455F-ABFE-D9C97720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8E0-AF03-4AC0-B2C3-2607CD95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F33-FF26-4A29-9E64-CE3744EC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EFC-BEC4-4532-A66D-26C3141B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54A5-827D-41BD-9A45-AE947B086D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wen.ua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79280" y="907920"/>
            <a:ext cx="867564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ЛК ОВ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ред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Sys 2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знакомительный учебный курс (1 д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77120" y="5805360"/>
            <a:ext cx="6279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федра АХТС и ЭКМ НТУ «ХП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гиональный учебный центр компании О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foto-plk100_pravo"/>
          <p:cNvPicPr/>
          <p:nvPr/>
        </p:nvPicPr>
        <p:blipFill>
          <a:blip r:embed="rId2"/>
          <a:stretch/>
        </p:blipFill>
        <p:spPr>
          <a:xfrm>
            <a:off x="4356000" y="3789360"/>
            <a:ext cx="2737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83720" y="549360"/>
            <a:ext cx="737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get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нформация о типе и характеристиках используемого П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рсия «прошивк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1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.е. внутреннее программное обеспечение ПЛ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К150-220.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  =  target PLC150-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К150-220.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  =  target PLC150-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а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allTarget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робности в руководстве по эксплуа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ключ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ур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стройки целевой плат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332000" y="4941720"/>
            <a:ext cx="625788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21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824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ходы и выходы ПЛ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аиваются в ресурс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фигурация П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crete inpu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ные в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crete outpu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ные вы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n-out"/>
          <p:cNvPicPr/>
          <p:nvPr/>
        </p:nvPicPr>
        <p:blipFill>
          <a:blip r:embed="rId1"/>
          <a:stretch/>
        </p:blipFill>
        <p:spPr>
          <a:xfrm>
            <a:off x="2268360" y="3068640"/>
            <a:ext cx="4254840" cy="337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27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789360" y="1773360"/>
            <a:ext cx="1927080" cy="459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28640" y="2693880"/>
            <a:ext cx="1927080" cy="459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01880" y="2708280"/>
            <a:ext cx="1727280" cy="825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659640" y="2693880"/>
            <a:ext cx="1927080" cy="459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116000" y="5229360"/>
            <a:ext cx="2087640" cy="1008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, фун. блоки,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 flipH="1">
            <a:off x="2126880" y="2276640"/>
            <a:ext cx="1662120" cy="43164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5718240" y="2276640"/>
            <a:ext cx="1328760" cy="43164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4013280" y="2276640"/>
            <a:ext cx="0" cy="43164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795240" y="4135320"/>
            <a:ext cx="33192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84080" y="5805360"/>
            <a:ext cx="33048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 flipV="1">
            <a:off x="784080" y="3198960"/>
            <a:ext cx="11160" cy="26064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7058160" y="5516640"/>
            <a:ext cx="1906560" cy="7038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7058160" y="4782960"/>
            <a:ext cx="1927080" cy="398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6727680" y="4135320"/>
            <a:ext cx="33048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6727680" y="4998960"/>
            <a:ext cx="33048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6699240" y="3198600"/>
            <a:ext cx="28440" cy="26780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4702320" y="2708280"/>
            <a:ext cx="1790640" cy="825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и-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5584680" y="2276640"/>
            <a:ext cx="0" cy="43164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4880" y="609480"/>
            <a:ext cx="77374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699240" y="5877000"/>
            <a:ext cx="33192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7031160" y="3860640"/>
            <a:ext cx="1927080" cy="7038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ы и вы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1114560" y="3860640"/>
            <a:ext cx="2060280" cy="1008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нутрен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32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53" name="Rectangle 33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4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42200" cy="62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14120" y="198108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ся в одном файл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name.p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программные компоненты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изуализации, ресурс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приложения начинается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 PLC_PR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ог функци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яется цикл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59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2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00000" y="907920"/>
            <a:ext cx="765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ая программа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PLC_PRG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ся циклически системой ис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2826000" cy="3957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015160" y="35146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036400" y="50436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5996160" y="3703680"/>
            <a:ext cx="1168200" cy="66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69160" y="3789360"/>
            <a:ext cx="119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ходн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024600" y="5357880"/>
            <a:ext cx="1204920" cy="66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113520" y="5407200"/>
            <a:ext cx="118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ходны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7274160" y="376704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7274160" y="542304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 rot="10800000">
            <a:off x="6830640" y="4322880"/>
            <a:ext cx="1198440" cy="342720"/>
          </a:xfrm>
          <a:custGeom>
            <a:avLst/>
            <a:gdLst>
              <a:gd name="textAreaLeft" fmla="*/ 209520 w 1198440"/>
              <a:gd name="textAreaRight" fmla="*/ 869040 w 1198440"/>
              <a:gd name="textAreaTop" fmla="*/ 45720 h 342720"/>
              <a:gd name="textAreaBottom" fmla="*/ 297000 h 34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5214960" y="3948120"/>
            <a:ext cx="647640" cy="88920"/>
          </a:xfrm>
          <a:prstGeom prst="leftArrow">
            <a:avLst>
              <a:gd name="adj1" fmla="val 50000"/>
              <a:gd name="adj2" fmla="val 18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 rot="10800000">
            <a:off x="5214600" y="5659200"/>
            <a:ext cx="647640" cy="88920"/>
          </a:xfrm>
          <a:prstGeom prst="leftArrow">
            <a:avLst>
              <a:gd name="adj1" fmla="val 50000"/>
              <a:gd name="adj2" fmla="val 18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7031160" y="5950080"/>
            <a:ext cx="1130040" cy="352440"/>
          </a:xfrm>
          <a:custGeom>
            <a:avLst/>
            <a:gdLst>
              <a:gd name="textAreaLeft" fmla="*/ 197640 w 1130040"/>
              <a:gd name="textAreaRight" fmla="*/ 819360 w 11300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2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77" name="Rectangle 2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8560" y="1348920"/>
            <a:ext cx="736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астройка времени цикла</a:t>
            </a:r>
            <a:br>
              <a:rPr sz="3600"/>
            </a:b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оизводится в ресурсе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Конфигурация ПЛК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араметры моду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уемое значение: 5 .. 10 м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mincyclelength"/>
          <p:cNvPicPr/>
          <p:nvPr/>
        </p:nvPicPr>
        <p:blipFill>
          <a:blip r:embed="rId1"/>
          <a:stretch/>
        </p:blipFill>
        <p:spPr>
          <a:xfrm>
            <a:off x="1116000" y="3500280"/>
            <a:ext cx="6883560" cy="2362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83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7561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ык функциональных блоко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блок-CFC"/>
          <p:cNvPicPr/>
          <p:nvPr/>
        </p:nvPicPr>
        <p:blipFill>
          <a:blip r:embed="rId2"/>
          <a:stretch/>
        </p:blipFill>
        <p:spPr>
          <a:xfrm>
            <a:off x="1116000" y="306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входCFC"/>
          <p:cNvPicPr/>
          <p:nvPr/>
        </p:nvPicPr>
        <p:blipFill>
          <a:blip r:embed="rId3"/>
          <a:stretch/>
        </p:blipFill>
        <p:spPr>
          <a:xfrm>
            <a:off x="1116000" y="1628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выходCFC"/>
          <p:cNvPicPr/>
          <p:nvPr/>
        </p:nvPicPr>
        <p:blipFill>
          <a:blip r:embed="rId4"/>
          <a:stretch/>
        </p:blipFill>
        <p:spPr>
          <a:xfrm>
            <a:off x="1116000" y="23479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инверсия-CFC"/>
          <p:cNvPicPr/>
          <p:nvPr/>
        </p:nvPicPr>
        <p:blipFill>
          <a:blip r:embed="rId5"/>
          <a:stretch/>
        </p:blipFill>
        <p:spPr>
          <a:xfrm>
            <a:off x="1116000" y="3789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комментарий-CFC"/>
          <p:cNvPicPr/>
          <p:nvPr/>
        </p:nvPicPr>
        <p:blipFill>
          <a:blip r:embed="rId6"/>
          <a:stretch/>
        </p:blipFill>
        <p:spPr>
          <a:xfrm>
            <a:off x="1116000" y="6093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set_reset-CFC"/>
          <p:cNvPicPr/>
          <p:nvPr/>
        </p:nvPicPr>
        <p:blipFill>
          <a:blip r:embed="rId7"/>
          <a:stretch/>
        </p:blipFill>
        <p:spPr>
          <a:xfrm>
            <a:off x="111600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en-CFC"/>
          <p:cNvPicPr/>
          <p:nvPr/>
        </p:nvPicPr>
        <p:blipFill>
          <a:blip r:embed="rId8"/>
          <a:stretch/>
        </p:blipFill>
        <p:spPr>
          <a:xfrm>
            <a:off x="1116000" y="5300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4"/>
          <p:cNvSpPr/>
          <p:nvPr/>
        </p:nvSpPr>
        <p:spPr>
          <a:xfrm>
            <a:off x="1908000" y="1628640"/>
            <a:ext cx="338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 – вызов перем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1908000" y="2349360"/>
            <a:ext cx="525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 – запись перем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908000" y="3068640"/>
            <a:ext cx="525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 – вызов опер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1908000" y="3789360"/>
            <a:ext cx="525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1908000" y="4508640"/>
            <a:ext cx="63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/Rese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установки / сброса 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1908000" y="5300640"/>
            <a:ext cx="633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/ENO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е разрешающего в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1908000" y="6093000"/>
            <a:ext cx="63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1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02" name="Rectangle 22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3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581120" y="2565360"/>
          <a:ext cx="6230880" cy="3425760"/>
        </p:xfrm>
        <a:graphic>
          <a:graphicData uri="http://schemas.openxmlformats.org/drawingml/2006/table">
            <a:tbl>
              <a:tblPr/>
              <a:tblGrid>
                <a:gridCol w="1419120"/>
                <a:gridCol w="2556000"/>
                <a:gridCol w="22557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/ 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N / 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NOT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/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IF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THEN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X :=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TRU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END_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/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IF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THEN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X :=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FALS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END_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4560" y="847440"/>
            <a:ext cx="7596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ы присва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0" descr="присваивание"/>
          <p:cNvPicPr/>
          <p:nvPr/>
        </p:nvPicPr>
        <p:blipFill>
          <a:blip r:embed="rId1"/>
          <a:stretch/>
        </p:blipFill>
        <p:spPr>
          <a:xfrm>
            <a:off x="3297240" y="3141720"/>
            <a:ext cx="1995480" cy="2592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3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09" name="Rectangle 3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3160" y="777600"/>
            <a:ext cx="73850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ие оп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47760" y="2060640"/>
          <a:ext cx="6913440" cy="4392720"/>
        </p:xfrm>
        <a:graphic>
          <a:graphicData uri="http://schemas.openxmlformats.org/drawingml/2006/table">
            <a:tbl>
              <a:tblPr/>
              <a:tblGrid>
                <a:gridCol w="1397160"/>
                <a:gridCol w="2854080"/>
                <a:gridCol w="2662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NOT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A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ND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A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OR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3716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A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XOR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29" descr="and-or"/>
          <p:cNvPicPr/>
          <p:nvPr/>
        </p:nvPicPr>
        <p:blipFill>
          <a:blip r:embed="rId1"/>
          <a:stretch/>
        </p:blipFill>
        <p:spPr>
          <a:xfrm>
            <a:off x="2909880" y="2708280"/>
            <a:ext cx="2409840" cy="3711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0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3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16" name="Rectangle 3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923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: управление кот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305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реализ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ение сигнализации при возникновении любой из ав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ючение котла при возникновении любой из ав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ение котла с кнопки, при условии отсутствия ав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ючение котла с кноп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22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12" descr="visu_tool"/>
          <p:cNvPicPr/>
          <p:nvPr/>
        </p:nvPicPr>
        <p:blipFill>
          <a:blip r:embed="rId2"/>
          <a:stretch/>
        </p:blipFill>
        <p:spPr>
          <a:xfrm>
            <a:off x="4572000" y="3645000"/>
            <a:ext cx="4356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900000" y="1989000"/>
            <a:ext cx="7704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система программирования ПЛК в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германской компа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-soft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, разработанная в соответствии с международным стандартом МЭ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6113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ьзователей ОВЕН ПЛ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Sy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спл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403280" y="692280"/>
            <a:ext cx="58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DeSys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56" name="Rectangle 18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9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связи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робнее в руководстве по эксплуат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14000" y="980640"/>
            <a:ext cx="6381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раметры связ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н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-2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omm-param"/>
          <p:cNvPicPr/>
          <p:nvPr/>
        </p:nvPicPr>
        <p:blipFill>
          <a:blip r:embed="rId1"/>
          <a:stretch/>
        </p:blipFill>
        <p:spPr>
          <a:xfrm>
            <a:off x="1547640" y="2060640"/>
            <a:ext cx="6446880" cy="439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30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14000" y="980640"/>
            <a:ext cx="6381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раметры связ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н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eth-param"/>
          <p:cNvPicPr/>
          <p:nvPr/>
        </p:nvPicPr>
        <p:blipFill>
          <a:blip r:embed="rId1"/>
          <a:stretch/>
        </p:blipFill>
        <p:spPr>
          <a:xfrm>
            <a:off x="1547640" y="2060640"/>
            <a:ext cx="6578640" cy="4262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37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Визу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985920" cy="31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 ко всем данным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ческое отображение логических и числовых значений, текстовых сооб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  логических и числовых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е графически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графиков и архив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visu_prg1"/>
          <p:cNvPicPr/>
          <p:nvPr/>
        </p:nvPicPr>
        <p:blipFill>
          <a:blip r:embed="rId1"/>
          <a:srcRect l="21115" t="10489" r="0" b="0"/>
          <a:stretch/>
        </p:blipFill>
        <p:spPr>
          <a:xfrm>
            <a:off x="4643280" y="1413000"/>
            <a:ext cx="4105440" cy="3956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9"/>
          <p:cNvSpPr/>
          <p:nvPr/>
        </p:nvSpPr>
        <p:spPr>
          <a:xfrm>
            <a:off x="684360" y="5587920"/>
            <a:ext cx="806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ельное приложение – проигрыватель визуализац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Sys H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45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хранение проекта в памяти П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createbootproject"/>
          <p:cNvPicPr/>
          <p:nvPr/>
        </p:nvPicPr>
        <p:blipFill>
          <a:blip r:embed="rId1"/>
          <a:stretch/>
        </p:blipFill>
        <p:spPr>
          <a:xfrm>
            <a:off x="3059280" y="1741320"/>
            <a:ext cx="5248080" cy="51166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5840" y="2276640"/>
            <a:ext cx="4446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ь необходимый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ться с ПЛ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ю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здание загрузочного про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52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900000" y="1844640"/>
          <a:ext cx="7588440" cy="2925720"/>
        </p:xfrm>
        <a:graphic>
          <a:graphicData uri="http://schemas.openxmlformats.org/drawingml/2006/table">
            <a:tbl>
              <a:tblPr/>
              <a:tblGrid>
                <a:gridCol w="2743200"/>
                <a:gridCol w="2468520"/>
                <a:gridCol w="2376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ое 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, TRUE, 0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T, INT, D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.. 127, -32768 .. 32767,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47483648 .. 21474836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4453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8099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E, WORD, D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.. 255,   0 .. 65535,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.. 4294967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0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#2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, L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x 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8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..  3.4x 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x 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08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  1.7x 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4996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377E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.. 255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`Emergency Stop`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тандартные типы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5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58" name="Rectangle 5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25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Имена п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98984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ы и цифры английского язы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должно начинаться с бук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одинарные подчерки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пробел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использовать зарезервированные слова  МЭК и операт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, VAR, WORD, PROGRA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 букв не различ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84360" y="4508640"/>
            <a:ext cx="55386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7489800" cy="138564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66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250" autoRev="1" fill="hold"/>
                                        <p:tgtEl>
                                          <p:spTgt spid="2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нфигурирование аналоговых в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ai_config1"/>
          <p:cNvPicPr/>
          <p:nvPr/>
        </p:nvPicPr>
        <p:blipFill>
          <a:blip r:embed="rId1"/>
          <a:stretch/>
        </p:blipFill>
        <p:spPr>
          <a:xfrm>
            <a:off x="1116000" y="1413000"/>
            <a:ext cx="4564080" cy="2657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ai_config2"/>
          <p:cNvPicPr/>
          <p:nvPr/>
        </p:nvPicPr>
        <p:blipFill>
          <a:blip r:embed="rId2"/>
          <a:stretch/>
        </p:blipFill>
        <p:spPr>
          <a:xfrm>
            <a:off x="3243240" y="4221000"/>
            <a:ext cx="521352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73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25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ный опера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68560" y="1773360"/>
            <a:ext cx="797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условие»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Логическая переменная или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1»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перации, которые 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2»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роизводить при выполнении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3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SE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перации, которые 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роизводить при НЕвыполнении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D_IF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кончание описания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79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: терморегулято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1760" y="2216160"/>
            <a:ext cx="474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реализ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температуры с датчика 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5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85_5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аналоговом вх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гнализацию о выходе за заданную уставку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ючение сигнализации после уменьшения температуры ниже заданного уставки 2 (по умолчанию 100 г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867120" cy="29242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86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476360" y="1916280"/>
            <a:ext cx="547200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эмуляци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Alt+F8]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ючени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F8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F5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Shift+F8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3440" y="909360"/>
            <a:ext cx="7989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команды режима Онл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4"/>
          <p:cNvGraphicFramePr/>
          <p:nvPr/>
        </p:nvGraphicFramePr>
        <p:xfrm>
          <a:off x="1155600" y="2492280"/>
          <a:ext cx="32076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2492280"/>
                    <a:ext cx="3207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5"/>
          <p:cNvGraphicFramePr/>
          <p:nvPr/>
        </p:nvGraphicFramePr>
        <p:xfrm>
          <a:off x="1154160" y="3643200"/>
          <a:ext cx="32220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4160" y="3643200"/>
                    <a:ext cx="3222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1155600" y="4148280"/>
          <a:ext cx="3207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5600" y="4148280"/>
                    <a:ext cx="3207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7"/>
          <p:cNvGraphicFramePr/>
          <p:nvPr/>
        </p:nvGraphicFramePr>
        <p:xfrm>
          <a:off x="1155600" y="3068640"/>
          <a:ext cx="32076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55600" y="3068640"/>
                    <a:ext cx="3207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Picture 9" descr="овен_лого"/>
          <p:cNvPicPr/>
          <p:nvPr/>
        </p:nvPicPr>
        <p:blipFill>
          <a:blip r:embed="rId9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3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00" name="Rectangle 14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3440" y="672840"/>
            <a:ext cx="7737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лекс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De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1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61" name="Rectangle 12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7" descr=""/>
          <p:cNvPicPr/>
          <p:nvPr/>
        </p:nvPicPr>
        <p:blipFill>
          <a:blip r:embed="rId2"/>
          <a:srcRect l="19881" t="13147" r="24611" b="8418"/>
          <a:stretch/>
        </p:blipFill>
        <p:spPr>
          <a:xfrm>
            <a:off x="1547640" y="1341360"/>
            <a:ext cx="648036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900000" y="2211480"/>
            <a:ext cx="7975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цик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ить точку останов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F9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аговая отладк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значени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F7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3440" y="909360"/>
            <a:ext cx="7989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команды режима Онл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42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06" name="Rectangle 43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4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создании нового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55520" y="2071800"/>
            <a:ext cx="71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фай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вашего ПЛ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главную программ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_P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 цик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необходим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12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34640" y="639720"/>
            <a:ext cx="538668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ы 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9280" y="2276640"/>
          <a:ext cx="5832360" cy="4054320"/>
        </p:xfrm>
        <a:graphic>
          <a:graphicData uri="http://schemas.openxmlformats.org/drawingml/2006/table">
            <a:tbl>
              <a:tblPr/>
              <a:tblGrid>
                <a:gridCol w="1766880"/>
                <a:gridCol w="1484280"/>
                <a:gridCol w="2581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E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=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lt;&gt;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gt;=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G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gt;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lt;=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lt;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Rectangle 37"/>
          <p:cNvSpPr/>
          <p:nvPr/>
        </p:nvSpPr>
        <p:spPr>
          <a:xfrm>
            <a:off x="3938760" y="2708280"/>
            <a:ext cx="5619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8"/>
          <p:cNvSpPr/>
          <p:nvPr/>
        </p:nvSpPr>
        <p:spPr>
          <a:xfrm>
            <a:off x="3924360" y="333216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3924360" y="393372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0"/>
          <p:cNvSpPr/>
          <p:nvPr/>
        </p:nvSpPr>
        <p:spPr>
          <a:xfrm>
            <a:off x="3924360" y="455616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3924360" y="515772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2"/>
          <p:cNvSpPr/>
          <p:nvPr/>
        </p:nvSpPr>
        <p:spPr>
          <a:xfrm>
            <a:off x="3924360" y="578016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3"/>
          <p:cNvSpPr/>
          <p:nvPr/>
        </p:nvSpPr>
        <p:spPr>
          <a:xfrm>
            <a:off x="1405080" y="144792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ля работы со всеми типам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0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7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25" name="Rectangle 58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9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25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80960" y="726840"/>
            <a:ext cx="647064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рифметические  оп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19280" y="2565360"/>
          <a:ext cx="5545080" cy="2835360"/>
        </p:xfrm>
        <a:graphic>
          <a:graphicData uri="http://schemas.openxmlformats.org/drawingml/2006/table">
            <a:tbl>
              <a:tblPr/>
              <a:tblGrid>
                <a:gridCol w="1760400"/>
                <a:gridCol w="1484280"/>
                <a:gridCol w="2300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= A +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= A - 4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= A *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D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= A / 8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Rectangle 33"/>
          <p:cNvSpPr/>
          <p:nvPr/>
        </p:nvSpPr>
        <p:spPr>
          <a:xfrm>
            <a:off x="3863880" y="2997360"/>
            <a:ext cx="5637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3863880" y="3619440"/>
            <a:ext cx="5637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3863880" y="4221000"/>
            <a:ext cx="5637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3863880" y="4843440"/>
            <a:ext cx="5637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8"/>
          <p:cNvSpPr/>
          <p:nvPr/>
        </p:nvSpPr>
        <p:spPr>
          <a:xfrm>
            <a:off x="893880" y="1359000"/>
            <a:ext cx="778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ют алгебраические операции над целыми числ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T, WORD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числами с плавающей запят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9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4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36" name="Rectangle 5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5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368360" y="1143000"/>
            <a:ext cx="759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ы для ограничения и выбора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с любыми типам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890720" y="2214720"/>
          <a:ext cx="6014880" cy="4384440"/>
        </p:xfrm>
        <a:graphic>
          <a:graphicData uri="http://schemas.openxmlformats.org/drawingml/2006/table">
            <a:tbl>
              <a:tblPr/>
              <a:tblGrid>
                <a:gridCol w="1363680"/>
                <a:gridCol w="1598760"/>
                <a:gridCol w="3052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I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AX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I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8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IMIT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-8,A,5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-8 if A &lt; -8</a:t>
                      </a: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5 if A &gt;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EL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10,B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10 if A is FALSE</a:t>
                      </a: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B if A is TR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UX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0,10,B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0 if A is 0</a:t>
                      </a: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10 if A is 1</a:t>
                      </a: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B if A i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60400" y="512280"/>
            <a:ext cx="6051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ераторы выбора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3"/>
          <p:cNvSpPr/>
          <p:nvPr/>
        </p:nvSpPr>
        <p:spPr>
          <a:xfrm>
            <a:off x="3767040" y="5619600"/>
            <a:ext cx="561960" cy="762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4"/>
          <p:cNvSpPr/>
          <p:nvPr/>
        </p:nvSpPr>
        <p:spPr>
          <a:xfrm>
            <a:off x="3772080" y="4754520"/>
            <a:ext cx="561960" cy="609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5"/>
          <p:cNvSpPr/>
          <p:nvPr/>
        </p:nvSpPr>
        <p:spPr>
          <a:xfrm>
            <a:off x="3753000" y="264780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6"/>
          <p:cNvSpPr/>
          <p:nvPr/>
        </p:nvSpPr>
        <p:spPr>
          <a:xfrm>
            <a:off x="3763800" y="3270240"/>
            <a:ext cx="5619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7"/>
          <p:cNvSpPr/>
          <p:nvPr/>
        </p:nvSpPr>
        <p:spPr>
          <a:xfrm>
            <a:off x="3776760" y="3889440"/>
            <a:ext cx="561960" cy="609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5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5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48" name="Rectangle 6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6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250" autoRev="1" fill="hold"/>
                                        <p:tgtEl>
                                          <p:spTgt spid="3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368360" y="1519200"/>
            <a:ext cx="7596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сваивает значение слева переменной с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с любыми типами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явлении знач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вход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, иначе операция игнорир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с любыми операторами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280" y="657360"/>
            <a:ext cx="756108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ператор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move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и разрешающий вход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9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4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54" name="Rectangle 4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43" descr=""/>
          <p:cNvPicPr/>
          <p:nvPr/>
        </p:nvPicPr>
        <p:blipFill>
          <a:blip r:embed="rId2"/>
          <a:stretch/>
        </p:blipFill>
        <p:spPr>
          <a:xfrm>
            <a:off x="2484360" y="4508640"/>
            <a:ext cx="45165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ручное управление клапаном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реализ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вное увеличение и уменьшение степени открытия клапана с внешних кно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ачу управляющего сигнала 4-20 мА с выхода ПЛК на клап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ображение степени открытия клапана в процен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гнализацию о достижении концевых по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61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8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676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43444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4967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4.1 и 4.2 – типы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8.1 – операт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Sy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5 – програм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68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9" descr="petrov_book"/>
          <p:cNvPicPr/>
          <p:nvPr/>
        </p:nvPicPr>
        <p:blipFill>
          <a:blip r:embed="rId2"/>
          <a:stretch/>
        </p:blipFill>
        <p:spPr>
          <a:xfrm>
            <a:off x="5867280" y="1773360"/>
            <a:ext cx="2543400" cy="3809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>
            <a:off x="5796000" y="1700280"/>
            <a:ext cx="2663640" cy="39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1403280" y="692280"/>
            <a:ext cx="58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DeSys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55640" y="1773360"/>
            <a:ext cx="6120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програм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отла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создания визуал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dbg_tool"/>
          <p:cNvPicPr/>
          <p:nvPr/>
        </p:nvPicPr>
        <p:blipFill>
          <a:blip r:embed="rId2"/>
          <a:stretch/>
        </p:blipFill>
        <p:spPr>
          <a:xfrm>
            <a:off x="4932360" y="2852640"/>
            <a:ext cx="3922560" cy="206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prog_tool"/>
          <p:cNvPicPr/>
          <p:nvPr/>
        </p:nvPicPr>
        <p:blipFill>
          <a:blip r:embed="rId3"/>
          <a:stretch/>
        </p:blipFill>
        <p:spPr>
          <a:xfrm>
            <a:off x="5292720" y="2565360"/>
            <a:ext cx="3549600" cy="235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visu_tool"/>
          <p:cNvPicPr/>
          <p:nvPr/>
        </p:nvPicPr>
        <p:blipFill>
          <a:blip r:embed="rId4"/>
          <a:stretch/>
        </p:blipFill>
        <p:spPr>
          <a:xfrm>
            <a:off x="5076720" y="2565360"/>
            <a:ext cx="3695760" cy="2498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овен_лого"/>
          <p:cNvPicPr/>
          <p:nvPr/>
        </p:nvPicPr>
        <p:blipFill>
          <a:blip r:embed="rId5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7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72" name="Rectangle 18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9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928800" y="1614600"/>
            <a:ext cx="6164280" cy="8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Sy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кт диска или с сайта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wen.ua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3440" y="672840"/>
            <a:ext cx="7737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к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De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2124000" y="2428920"/>
            <a:ext cx="5112000" cy="417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79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9120" y="899640"/>
            <a:ext cx="77374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нципы стандарта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ЭК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61131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55640" y="1943280"/>
            <a:ext cx="816444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является международны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принципы программирования П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ных  языков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IL, FBD, LD, S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 программных компонентов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OU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функции, программы и функциональные бл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объявления и типы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разработчику не зависеть от производителя системы програм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85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5776920" cy="514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6483240" y="2651040"/>
            <a:ext cx="26272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ое меню и панель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ласть определения перем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еджер о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но сооб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ока стат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 flipH="1" flipV="1">
            <a:off x="3782520" y="1687680"/>
            <a:ext cx="2730600" cy="124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H="1" flipV="1">
            <a:off x="3300480" y="3367080"/>
            <a:ext cx="3186000" cy="682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1325520" y="4440240"/>
            <a:ext cx="51357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 flipH="1">
            <a:off x="3952800" y="4824360"/>
            <a:ext cx="25243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867280" y="5146560"/>
            <a:ext cx="581040" cy="1104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560" y="1886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запуск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De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 flipV="1">
            <a:off x="3419280" y="2349000"/>
            <a:ext cx="3065400" cy="107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98" name="Rectangle 2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10400" cy="4495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67560" y="3568680"/>
            <a:ext cx="2931840" cy="15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3440" y="885600"/>
            <a:ext cx="773712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рой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Sy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п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05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троллер ПЛК150-220.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ПЛК150"/>
          <p:cNvPicPr/>
          <p:nvPr/>
        </p:nvPicPr>
        <p:blipFill>
          <a:blip r:embed="rId1"/>
          <a:stretch/>
        </p:blipFill>
        <p:spPr>
          <a:xfrm>
            <a:off x="2195640" y="1413000"/>
            <a:ext cx="6313320" cy="4944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foto-plk100_pravo"/>
          <p:cNvPicPr/>
          <p:nvPr/>
        </p:nvPicPr>
        <p:blipFill>
          <a:blip r:embed="rId2"/>
          <a:stretch/>
        </p:blipFill>
        <p:spPr>
          <a:xfrm>
            <a:off x="2179800" y="2852640"/>
            <a:ext cx="2525400" cy="2324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12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15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52:08Z</dcterms:created>
  <dc:creator/>
  <dc:description/>
  <dc:language>en-US</dc:language>
  <cp:lastModifiedBy>Елена Владимировна Краснобай</cp:lastModifiedBy>
  <dcterms:modified xsi:type="dcterms:W3CDTF">2015-08-14T09:24:43Z</dcterms:modified>
  <cp:revision>58</cp:revision>
  <dc:subject/>
  <dc:title>NG-lab</dc:title>
</cp:coreProperties>
</file>