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1760" cy="25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3201840"/>
            <a:ext cx="7897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0368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772-B3E5-4292-B755-E30AEF3FB9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268-AEE5-4D7B-B076-DF3A11F29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E03-0195-42B6-B715-A332B6590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1C7-AFE2-42AF-9EF7-12837879F1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4598-3AA4-490A-8E75-12C1F6777A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759-DC59-47DD-9D24-D7A298D042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969-BBE3-4CA8-AB28-15F719B81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11C0-D15F-4CA2-8678-67B2C9832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45CA-8062-4067-A3E3-F19046F2BB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F0C7-AA80-44E6-84CC-05A483ABD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B3AC-2550-4C9A-AAE1-873FF672D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FD90-7E0C-4024-94FB-BDCF30B75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F3A8-3967-4BD7-9078-485D3B656A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6D31-61B4-4764-B2E3-CFEE5659F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0047-279D-4F68-BE4E-C75ADA158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7ED1-2315-4E12-A3F3-39C6B58B05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C93-6395-4C9D-9049-AFD317E756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47E0-AE46-4B76-9A57-B6D7425E6B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782C-CF22-41D9-93C5-D7A3ED6E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190-CF1E-4C47-AF52-588622E3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1A92-9069-46B1-879C-4D090C63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245-97C2-464B-9C6C-08574688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DD00-0324-4B96-9CC1-CBC3265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7AC2-F051-4871-95BB-0F51DB19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032-21E6-4092-98CB-46EEA947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AED0-240E-48AF-B8D0-2DF2858C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61A-7870-4016-BA4A-2198A32C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9EE-C8B9-46E7-80F3-CB241DB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C178-9C1C-4434-A28E-843CA81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CA2-68B1-435C-80A1-3A83DA51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FEF-43C4-4F25-AEEF-3570C7F16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support@owen.com.u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907920"/>
            <a:ext cx="867564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ОВЕН П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Sys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знакомительный учебный курс (2 д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7120" y="5805360"/>
            <a:ext cx="6279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федра АХТС и ЭКМ НТУ «ХП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гиональный учебный центр компании О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oto-plk100_pravo"/>
          <p:cNvPicPr/>
          <p:nvPr/>
        </p:nvPicPr>
        <p:blipFill>
          <a:blip r:embed="rId2"/>
          <a:stretch/>
        </p:blipFill>
        <p:spPr>
          <a:xfrm>
            <a:off x="5148360" y="3789360"/>
            <a:ext cx="2736720" cy="232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lk110-32"/>
          <p:cNvPicPr/>
          <p:nvPr/>
        </p:nvPicPr>
        <p:blipFill>
          <a:blip r:embed="rId3"/>
          <a:stretch/>
        </p:blipFill>
        <p:spPr>
          <a:xfrm rot="495000">
            <a:off x="1547280" y="3644640"/>
            <a:ext cx="2298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5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етекторы фр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95480" y="1776240"/>
            <a:ext cx="36576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_TR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передний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_TRI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задний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 flipV="1">
            <a:off x="5683320" y="1331640"/>
            <a:ext cx="0" cy="230508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84800" y="2496960"/>
            <a:ext cx="245916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462080" y="249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549760" y="3443400"/>
            <a:ext cx="1335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74000" y="33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5549760" y="2722680"/>
            <a:ext cx="1335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274000" y="2592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683320" y="2278080"/>
            <a:ext cx="198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613560" y="2278080"/>
            <a:ext cx="79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881680" y="1557360"/>
            <a:ext cx="73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613560" y="155736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5881680" y="155736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549760" y="227808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549760" y="155736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274000" y="142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683320" y="3440160"/>
            <a:ext cx="198360" cy="32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5948280" y="3443400"/>
            <a:ext cx="14623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881680" y="2744640"/>
            <a:ext cx="66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948280" y="2732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5881680" y="2732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5274000" y="216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8320" y="17733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607440" y="298116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5683320" y="4008600"/>
            <a:ext cx="0" cy="230472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5284800" y="5173560"/>
            <a:ext cx="245916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462080" y="5173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5549760" y="611964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5274000" y="598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5549760" y="539892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5274000" y="5268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83320" y="4960800"/>
            <a:ext cx="198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6613560" y="4960800"/>
            <a:ext cx="79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5881680" y="4240080"/>
            <a:ext cx="73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7"/>
          <p:cNvSpPr/>
          <p:nvPr/>
        </p:nvSpPr>
        <p:spPr>
          <a:xfrm>
            <a:off x="6613560" y="424008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8"/>
          <p:cNvSpPr/>
          <p:nvPr/>
        </p:nvSpPr>
        <p:spPr>
          <a:xfrm>
            <a:off x="5881680" y="424008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9"/>
          <p:cNvSpPr/>
          <p:nvPr/>
        </p:nvSpPr>
        <p:spPr>
          <a:xfrm>
            <a:off x="5549760" y="495468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5549760" y="423396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5274000" y="41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2"/>
          <p:cNvSpPr/>
          <p:nvPr/>
        </p:nvSpPr>
        <p:spPr>
          <a:xfrm>
            <a:off x="5683320" y="6119640"/>
            <a:ext cx="9302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6678720" y="6122880"/>
            <a:ext cx="7318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4"/>
          <p:cNvSpPr/>
          <p:nvPr/>
        </p:nvSpPr>
        <p:spPr>
          <a:xfrm>
            <a:off x="6613560" y="5408640"/>
            <a:ext cx="651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5"/>
          <p:cNvSpPr/>
          <p:nvPr/>
        </p:nvSpPr>
        <p:spPr>
          <a:xfrm>
            <a:off x="6678720" y="5396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6"/>
          <p:cNvSpPr/>
          <p:nvPr/>
        </p:nvSpPr>
        <p:spPr>
          <a:xfrm>
            <a:off x="6613560" y="5396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5274000" y="4836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620400" y="44560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6607440" y="565164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6" name="Rectangle 5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чет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TD"/>
          <p:cNvPicPr/>
          <p:nvPr/>
        </p:nvPicPr>
        <p:blipFill>
          <a:blip r:embed="rId1"/>
          <a:stretch/>
        </p:blipFill>
        <p:spPr>
          <a:xfrm>
            <a:off x="7229520" y="3068640"/>
            <a:ext cx="582480" cy="78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TU"/>
          <p:cNvPicPr/>
          <p:nvPr/>
        </p:nvPicPr>
        <p:blipFill>
          <a:blip r:embed="rId2"/>
          <a:stretch/>
        </p:blipFill>
        <p:spPr>
          <a:xfrm>
            <a:off x="7229520" y="1916280"/>
            <a:ext cx="582480" cy="782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961920" y="1557360"/>
            <a:ext cx="5900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рементируется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рементируется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рементируется или декрементируется по разным вх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TUD"/>
          <p:cNvPicPr/>
          <p:nvPr/>
        </p:nvPicPr>
        <p:blipFill>
          <a:blip r:embed="rId3"/>
          <a:stretch/>
        </p:blipFill>
        <p:spPr>
          <a:xfrm>
            <a:off x="7229520" y="4076640"/>
            <a:ext cx="582480" cy="78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овен_лого"/>
          <p:cNvPicPr/>
          <p:nvPr/>
        </p:nvPicPr>
        <p:blipFill>
          <a:blip r:embed="rId4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65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ременные типы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611280" y="1341360"/>
            <a:ext cx="8353080" cy="4465800"/>
            <a:chOff x="611280" y="1341360"/>
            <a:chExt cx="8353080" cy="4465800"/>
          </a:xfrm>
        </p:grpSpPr>
        <p:grpSp>
          <p:nvGrpSpPr>
            <p:cNvPr id="169" name="Group 4"/>
            <p:cNvGrpSpPr/>
            <p:nvPr/>
          </p:nvGrpSpPr>
          <p:grpSpPr>
            <a:xfrm>
              <a:off x="617040" y="1343880"/>
              <a:ext cx="8340480" cy="4459680"/>
              <a:chOff x="617040" y="1343880"/>
              <a:chExt cx="8340480" cy="4459680"/>
            </a:xfrm>
          </p:grpSpPr>
          <p:grpSp>
            <p:nvGrpSpPr>
              <p:cNvPr id="170" name="Group 5"/>
              <p:cNvGrpSpPr/>
              <p:nvPr/>
            </p:nvGrpSpPr>
            <p:grpSpPr>
              <a:xfrm>
                <a:off x="617040" y="1343880"/>
                <a:ext cx="2330280" cy="404280"/>
                <a:chOff x="617040" y="1343880"/>
                <a:chExt cx="2330280" cy="404280"/>
              </a:xfrm>
            </p:grpSpPr>
            <p:sp>
              <p:nvSpPr>
                <p:cNvPr id="171" name="Rectangle 6"/>
                <p:cNvSpPr/>
                <p:nvPr/>
              </p:nvSpPr>
              <p:spPr>
                <a:xfrm>
                  <a:off x="704880" y="1343880"/>
                  <a:ext cx="215460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 Unicode MS"/>
                      <a:ea typeface="Times New Roman"/>
                    </a:rPr>
                    <a:t>Ти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7"/>
                <p:cNvSpPr/>
                <p:nvPr/>
              </p:nvSpPr>
              <p:spPr>
                <a:xfrm>
                  <a:off x="617040" y="1343880"/>
                  <a:ext cx="233028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8"/>
              <p:cNvGrpSpPr/>
              <p:nvPr/>
            </p:nvGrpSpPr>
            <p:grpSpPr>
              <a:xfrm>
                <a:off x="2947680" y="1343880"/>
                <a:ext cx="2518200" cy="404280"/>
                <a:chOff x="2947680" y="1343880"/>
                <a:chExt cx="2518200" cy="404280"/>
              </a:xfrm>
            </p:grpSpPr>
            <p:sp>
              <p:nvSpPr>
                <p:cNvPr id="174" name="Rectangle 9"/>
                <p:cNvSpPr/>
                <p:nvPr/>
              </p:nvSpPr>
              <p:spPr>
                <a:xfrm>
                  <a:off x="3035520" y="1343880"/>
                  <a:ext cx="234252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0"/>
                <p:cNvSpPr/>
                <p:nvPr/>
              </p:nvSpPr>
              <p:spPr>
                <a:xfrm>
                  <a:off x="2947680" y="1343880"/>
                  <a:ext cx="251820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1"/>
              <p:cNvGrpSpPr/>
              <p:nvPr/>
            </p:nvGrpSpPr>
            <p:grpSpPr>
              <a:xfrm>
                <a:off x="5466240" y="1343880"/>
                <a:ext cx="3491280" cy="404280"/>
                <a:chOff x="5466240" y="1343880"/>
                <a:chExt cx="3491280" cy="404280"/>
              </a:xfrm>
            </p:grpSpPr>
            <p:sp>
              <p:nvSpPr>
                <p:cNvPr id="177" name="Rectangle 12"/>
                <p:cNvSpPr/>
                <p:nvPr/>
              </p:nvSpPr>
              <p:spPr>
                <a:xfrm>
                  <a:off x="5553360" y="1343880"/>
                  <a:ext cx="331596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Пример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13"/>
                <p:cNvSpPr/>
                <p:nvPr/>
              </p:nvSpPr>
              <p:spPr>
                <a:xfrm>
                  <a:off x="5466240" y="1343880"/>
                  <a:ext cx="349128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4"/>
              <p:cNvGrpSpPr/>
              <p:nvPr/>
            </p:nvGrpSpPr>
            <p:grpSpPr>
              <a:xfrm>
                <a:off x="617040" y="1748160"/>
                <a:ext cx="2330280" cy="1013760"/>
                <a:chOff x="617040" y="1748160"/>
                <a:chExt cx="2330280" cy="1013760"/>
              </a:xfrm>
            </p:grpSpPr>
            <p:sp>
              <p:nvSpPr>
                <p:cNvPr id="180" name="Rectangle 15"/>
                <p:cNvSpPr/>
                <p:nvPr/>
              </p:nvSpPr>
              <p:spPr>
                <a:xfrm>
                  <a:off x="704880" y="1748160"/>
                  <a:ext cx="215460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6"/>
                <p:cNvSpPr/>
                <p:nvPr/>
              </p:nvSpPr>
              <p:spPr>
                <a:xfrm>
                  <a:off x="617040" y="1748160"/>
                  <a:ext cx="2330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7"/>
              <p:cNvGrpSpPr/>
              <p:nvPr/>
            </p:nvGrpSpPr>
            <p:grpSpPr>
              <a:xfrm>
                <a:off x="2947680" y="1748160"/>
                <a:ext cx="2518200" cy="1013760"/>
                <a:chOff x="2947680" y="1748160"/>
                <a:chExt cx="2518200" cy="1013760"/>
              </a:xfrm>
            </p:grpSpPr>
            <p:sp>
              <p:nvSpPr>
                <p:cNvPr id="183" name="Rectangle 18"/>
                <p:cNvSpPr/>
                <p:nvPr/>
              </p:nvSpPr>
              <p:spPr>
                <a:xfrm>
                  <a:off x="3035520" y="1748160"/>
                  <a:ext cx="234252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интервалов времени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9"/>
                <p:cNvSpPr/>
                <p:nvPr/>
              </p:nvSpPr>
              <p:spPr>
                <a:xfrm>
                  <a:off x="2947680" y="1748160"/>
                  <a:ext cx="251820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"/>
              <p:cNvGrpSpPr/>
              <p:nvPr/>
            </p:nvGrpSpPr>
            <p:grpSpPr>
              <a:xfrm>
                <a:off x="5466240" y="1748160"/>
                <a:ext cx="3491280" cy="1013760"/>
                <a:chOff x="5466240" y="1748160"/>
                <a:chExt cx="3491280" cy="1013760"/>
              </a:xfrm>
            </p:grpSpPr>
            <p:sp>
              <p:nvSpPr>
                <p:cNvPr id="186" name="Rectangle 21"/>
                <p:cNvSpPr/>
                <p:nvPr/>
              </p:nvSpPr>
              <p:spPr>
                <a:xfrm>
                  <a:off x="5553360" y="1748160"/>
                  <a:ext cx="331596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1:=T#5h45m10s9m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2:=T#100m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22"/>
                <p:cNvSpPr/>
                <p:nvPr/>
              </p:nvSpPr>
              <p:spPr>
                <a:xfrm>
                  <a:off x="5466240" y="1748160"/>
                  <a:ext cx="3491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23"/>
              <p:cNvGrpSpPr/>
              <p:nvPr/>
            </p:nvGrpSpPr>
            <p:grpSpPr>
              <a:xfrm>
                <a:off x="617040" y="2761920"/>
                <a:ext cx="2330280" cy="866160"/>
                <a:chOff x="617040" y="2761920"/>
                <a:chExt cx="2330280" cy="866160"/>
              </a:xfrm>
            </p:grpSpPr>
            <p:sp>
              <p:nvSpPr>
                <p:cNvPr id="189" name="Rectangle 24"/>
                <p:cNvSpPr/>
                <p:nvPr/>
              </p:nvSpPr>
              <p:spPr>
                <a:xfrm>
                  <a:off x="704880" y="2761920"/>
                  <a:ext cx="215460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25"/>
                <p:cNvSpPr/>
                <p:nvPr/>
              </p:nvSpPr>
              <p:spPr>
                <a:xfrm>
                  <a:off x="617040" y="2761920"/>
                  <a:ext cx="233028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6"/>
              <p:cNvGrpSpPr/>
              <p:nvPr/>
            </p:nvGrpSpPr>
            <p:grpSpPr>
              <a:xfrm>
                <a:off x="2947680" y="2761920"/>
                <a:ext cx="2518200" cy="866160"/>
                <a:chOff x="2947680" y="2761920"/>
                <a:chExt cx="2518200" cy="866160"/>
              </a:xfrm>
            </p:grpSpPr>
            <p:sp>
              <p:nvSpPr>
                <p:cNvPr id="192" name="Rectangle 27"/>
                <p:cNvSpPr/>
                <p:nvPr/>
              </p:nvSpPr>
              <p:spPr>
                <a:xfrm>
                  <a:off x="3035520" y="2761920"/>
                  <a:ext cx="234252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аты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8"/>
                <p:cNvSpPr/>
                <p:nvPr/>
              </p:nvSpPr>
              <p:spPr>
                <a:xfrm>
                  <a:off x="2947680" y="2761920"/>
                  <a:ext cx="25182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29"/>
              <p:cNvGrpSpPr/>
              <p:nvPr/>
            </p:nvGrpSpPr>
            <p:grpSpPr>
              <a:xfrm>
                <a:off x="5466240" y="2761920"/>
                <a:ext cx="3491280" cy="866160"/>
                <a:chOff x="5466240" y="2761920"/>
                <a:chExt cx="3491280" cy="866160"/>
              </a:xfrm>
            </p:grpSpPr>
            <p:sp>
              <p:nvSpPr>
                <p:cNvPr id="195" name="Rectangle 30"/>
                <p:cNvSpPr/>
                <p:nvPr/>
              </p:nvSpPr>
              <p:spPr>
                <a:xfrm>
                  <a:off x="5553360" y="2761920"/>
                  <a:ext cx="331596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4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E#1996-05-0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#1972-03-2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31"/>
                <p:cNvSpPr/>
                <p:nvPr/>
              </p:nvSpPr>
              <p:spPr>
                <a:xfrm>
                  <a:off x="5466240" y="2761920"/>
                  <a:ext cx="349128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2"/>
              <p:cNvGrpSpPr/>
              <p:nvPr/>
            </p:nvGrpSpPr>
            <p:grpSpPr>
              <a:xfrm>
                <a:off x="617040" y="3628440"/>
                <a:ext cx="2330280" cy="1013760"/>
                <a:chOff x="617040" y="3628440"/>
                <a:chExt cx="2330280" cy="1013760"/>
              </a:xfrm>
            </p:grpSpPr>
            <p:sp>
              <p:nvSpPr>
                <p:cNvPr id="198" name="Rectangle 33"/>
                <p:cNvSpPr/>
                <p:nvPr/>
              </p:nvSpPr>
              <p:spPr>
                <a:xfrm>
                  <a:off x="704880" y="3628440"/>
                  <a:ext cx="215460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IME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F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4"/>
                <p:cNvSpPr/>
                <p:nvPr/>
              </p:nvSpPr>
              <p:spPr>
                <a:xfrm>
                  <a:off x="617040" y="3628440"/>
                  <a:ext cx="2330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35"/>
              <p:cNvGrpSpPr/>
              <p:nvPr/>
            </p:nvGrpSpPr>
            <p:grpSpPr>
              <a:xfrm>
                <a:off x="2947680" y="3628440"/>
                <a:ext cx="2518200" cy="1013760"/>
                <a:chOff x="2947680" y="3628440"/>
                <a:chExt cx="2518200" cy="1013760"/>
              </a:xfrm>
            </p:grpSpPr>
            <p:sp>
              <p:nvSpPr>
                <p:cNvPr id="201" name="Rectangle 36"/>
                <p:cNvSpPr/>
                <p:nvPr/>
              </p:nvSpPr>
              <p:spPr>
                <a:xfrm>
                  <a:off x="3035520" y="3628440"/>
                  <a:ext cx="234252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ремени суто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7"/>
                <p:cNvSpPr/>
                <p:nvPr/>
              </p:nvSpPr>
              <p:spPr>
                <a:xfrm>
                  <a:off x="2947680" y="3628440"/>
                  <a:ext cx="251820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38"/>
              <p:cNvGrpSpPr/>
              <p:nvPr/>
            </p:nvGrpSpPr>
            <p:grpSpPr>
              <a:xfrm>
                <a:off x="5466240" y="3628440"/>
                <a:ext cx="3491280" cy="1013760"/>
                <a:chOff x="5466240" y="3628440"/>
                <a:chExt cx="3491280" cy="1013760"/>
              </a:xfrm>
            </p:grpSpPr>
            <p:sp>
              <p:nvSpPr>
                <p:cNvPr id="204" name="Rectangle 39"/>
                <p:cNvSpPr/>
                <p:nvPr/>
              </p:nvSpPr>
              <p:spPr>
                <a:xfrm>
                  <a:off x="5553360" y="3628440"/>
                  <a:ext cx="331596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_OF_DAY#15:36:30.12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d#00:00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40"/>
                <p:cNvSpPr/>
                <p:nvPr/>
              </p:nvSpPr>
              <p:spPr>
                <a:xfrm>
                  <a:off x="5466240" y="3628440"/>
                  <a:ext cx="3491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41"/>
              <p:cNvGrpSpPr/>
              <p:nvPr/>
            </p:nvGrpSpPr>
            <p:grpSpPr>
              <a:xfrm>
                <a:off x="617040" y="4642200"/>
                <a:ext cx="2330280" cy="1161360"/>
                <a:chOff x="617040" y="4642200"/>
                <a:chExt cx="2330280" cy="1161360"/>
              </a:xfrm>
            </p:grpSpPr>
            <p:sp>
              <p:nvSpPr>
                <p:cNvPr id="207" name="Rectangle 42"/>
                <p:cNvSpPr/>
                <p:nvPr/>
              </p:nvSpPr>
              <p:spPr>
                <a:xfrm>
                  <a:off x="704880" y="4642200"/>
                  <a:ext cx="215460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E_AND_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43"/>
                <p:cNvSpPr/>
                <p:nvPr/>
              </p:nvSpPr>
              <p:spPr>
                <a:xfrm>
                  <a:off x="617040" y="4642200"/>
                  <a:ext cx="233028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44"/>
              <p:cNvGrpSpPr/>
              <p:nvPr/>
            </p:nvGrpSpPr>
            <p:grpSpPr>
              <a:xfrm>
                <a:off x="2947680" y="4642200"/>
                <a:ext cx="2518200" cy="1161360"/>
                <a:chOff x="2947680" y="4642200"/>
                <a:chExt cx="2518200" cy="1161360"/>
              </a:xfrm>
            </p:grpSpPr>
            <p:sp>
              <p:nvSpPr>
                <p:cNvPr id="210" name="Rectangle 45"/>
                <p:cNvSpPr/>
                <p:nvPr/>
              </p:nvSpPr>
              <p:spPr>
                <a:xfrm>
                  <a:off x="3035520" y="4642200"/>
                  <a:ext cx="23425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аты и времени суто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6"/>
                <p:cNvSpPr/>
                <p:nvPr/>
              </p:nvSpPr>
              <p:spPr>
                <a:xfrm>
                  <a:off x="2947680" y="4642200"/>
                  <a:ext cx="251820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47"/>
              <p:cNvGrpSpPr/>
              <p:nvPr/>
            </p:nvGrpSpPr>
            <p:grpSpPr>
              <a:xfrm>
                <a:off x="5466240" y="4642200"/>
                <a:ext cx="3491280" cy="1161360"/>
                <a:chOff x="5466240" y="4642200"/>
                <a:chExt cx="3491280" cy="1161360"/>
              </a:xfrm>
            </p:grpSpPr>
            <p:sp>
              <p:nvSpPr>
                <p:cNvPr id="213" name="Rectangle 48"/>
                <p:cNvSpPr/>
                <p:nvPr/>
              </p:nvSpPr>
              <p:spPr>
                <a:xfrm>
                  <a:off x="5553360" y="4642200"/>
                  <a:ext cx="331596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7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E_AND_TIME#1996-05-06-15:36:3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t#1972-03-29-00:00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9"/>
                <p:cNvSpPr/>
                <p:nvPr/>
              </p:nvSpPr>
              <p:spPr>
                <a:xfrm>
                  <a:off x="5466240" y="4642200"/>
                  <a:ext cx="349128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Rectangle 50"/>
            <p:cNvSpPr/>
            <p:nvPr/>
          </p:nvSpPr>
          <p:spPr>
            <a:xfrm>
              <a:off x="611280" y="1341360"/>
              <a:ext cx="8353080" cy="446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51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18" name="Rectangle 5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3440" y="1277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реального времен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C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ональный бл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читывает текущее время и дату, начиная от заданной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этом ПЛК должен работать постоя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479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3558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3558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3652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rcRect l="13288" t="63505" r="53150" b="25654"/>
          <a:stretch/>
        </p:blipFill>
        <p:spPr>
          <a:xfrm>
            <a:off x="1258920" y="3449520"/>
            <a:ext cx="6856560" cy="177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1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28" name="Rectangle 1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895400" y="2014560"/>
            <a:ext cx="58104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050920" y="2133720"/>
          <a:ext cx="54817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5481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534960" y="130968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ирует импульс заданной дл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3440" y="698040"/>
            <a:ext cx="773712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7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882800" y="2014560"/>
            <a:ext cx="58086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066760" y="2131920"/>
          <a:ext cx="550080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2131920"/>
                    <a:ext cx="55008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4"/>
          <p:cNvSpPr/>
          <p:nvPr/>
        </p:nvSpPr>
        <p:spPr>
          <a:xfrm>
            <a:off x="568440" y="1008000"/>
            <a:ext cx="78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лючает выход с задержкой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3440" y="2599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ON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46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52480" y="1084320"/>
            <a:ext cx="76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ыключает выход с задержкой по за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817640" y="2014560"/>
            <a:ext cx="58086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990800" y="2100240"/>
          <a:ext cx="5492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100240"/>
                    <a:ext cx="5492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5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611280" y="77940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включением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84360" y="2638440"/>
            <a:ext cx="4537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жатии на кноп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 должен включитс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работать 10 секунд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 отклю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подсчит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вклю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61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13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42483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561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бота с библиотечными функциональными блокам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156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хранит исходники ФБ, в проекте используются экземпляры этих исходных Ф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 тот же ФБ в проекте может иметь несколько экземпляров, работающих одинаково и независим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экземпляр должен иметь уникальное имя (как и любая перемен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земляр ФБ объявляется аналогично тому, как это делается с локальными перем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7236000" y="227664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280836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6084720" y="4365720"/>
            <a:ext cx="2808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овен_лого"/>
          <p:cNvPicPr/>
          <p:nvPr/>
        </p:nvPicPr>
        <p:blipFill>
          <a:blip r:embed="rId5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3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4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543480" cy="1990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561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бота с библиотечными функциональными блокам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815840"/>
            <a:ext cx="5338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ся в рамках одного цикла ПЛК несколько раз обращаться одному и тому же экземпляру Ф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в конце цикла учитываются изменения, произведенные при последнем вызове экземп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5364000" y="4508640"/>
            <a:ext cx="352908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1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создании нов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5520" y="2071800"/>
            <a:ext cx="71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вашего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главную програ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необходи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5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3480" y="542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5400" y="1077480"/>
            <a:ext cx="7734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в комнате остается хотя бы один человек, свет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вклю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хода последнего человека свет гаснет автома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8" descr=""/>
          <p:cNvPicPr/>
          <p:nvPr/>
        </p:nvPicPr>
        <p:blipFill>
          <a:blip r:embed="rId2"/>
          <a:stretch/>
        </p:blipFill>
        <p:spPr>
          <a:xfrm>
            <a:off x="2484360" y="3429000"/>
            <a:ext cx="4716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ключение библио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9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5238720" cy="3514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3"/>
          <a:stretch/>
        </p:blipFill>
        <p:spPr>
          <a:xfrm>
            <a:off x="5580000" y="4076640"/>
            <a:ext cx="31528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1916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й пары типов данных используется отдельный оператор. В названии оператора сначала указывается исходный тип данных, а затем тип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09200" y="790200"/>
            <a:ext cx="59785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ераторы преобразования типов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465800" cy="33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2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657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. Формирование импуль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64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сигнала на аналоговом входе необходимо изменять скважность выходных импульсов в диапазоне от 15 до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3200400" cy="2962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0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031760" y="1147680"/>
            <a:ext cx="76075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 FUNCTION 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один или более входов, один выход, рекурсии не допуст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 блок: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FUNCTION_BLOCK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произвольное число входов и выходов. Имеет внутреннюю памя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функционального блока можно объявить несколько экземпл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 PROGRAM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а функциональному блоку, но имеет один глобальный экземпля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ип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6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3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826920" y="1197000"/>
            <a:ext cx="5473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ет внутренне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ьные переменные инициализируются при каждом выз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возвращает значение, через свой идентификато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имеет ти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а для реализации комплексны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екомендуется использование глобальных переменных в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2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8" descr=""/>
          <p:cNvPicPr/>
          <p:nvPr/>
        </p:nvPicPr>
        <p:blipFill>
          <a:blip r:embed="rId2"/>
          <a:stretch/>
        </p:blipFill>
        <p:spPr>
          <a:xfrm>
            <a:off x="6732720" y="3068640"/>
            <a:ext cx="189216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91920" y="444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ункциональ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925560" y="1409760"/>
            <a:ext cx="59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еременные функционального блока сохраняют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здании экземпляра функционального блока создается новая копия переменных функционального блока. Копия кода функционального блока не созд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тся для программирования повторно используемого кода, например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ов, таймеров, триггер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9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9" descr=""/>
          <p:cNvPicPr/>
          <p:nvPr/>
        </p:nvPicPr>
        <p:blipFill>
          <a:blip r:embed="rId2"/>
          <a:stretch/>
        </p:blipFill>
        <p:spPr>
          <a:xfrm>
            <a:off x="7020000" y="2133720"/>
            <a:ext cx="17334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774720" y="1841400"/>
            <a:ext cx="821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еременные сохраняют свои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структурирования при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36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се программные компоненты должны вызываться прямо или косвенно из главной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5162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7680" y="5155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 автоматический ввод рез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7" name="Rectangle 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Picture 8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616200" cy="282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9"/>
          <p:cNvSpPr/>
          <p:nvPr/>
        </p:nvSpPr>
        <p:spPr>
          <a:xfrm>
            <a:off x="755640" y="2492280"/>
            <a:ext cx="4321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бъекте 2 группы насосов, по 2 насоса в каждой групп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группе один насос рабочий, второй в резерв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рабатывают любые 2 из 3-х технологических датчиков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необходимо переключить насосы в каждой группе с работающего на резерв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400" y="1077480"/>
            <a:ext cx="7734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ходе установлены два дискретных датчика: один снару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внутри ком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рабатывает сначала внешний датчик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й, это означает, что человек зашел в комн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рабатывает сначала внутренний датчик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, это означает, что человек вышел из ком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чи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людей в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еловек вошел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ить свет, если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ел – выключить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в комнате ос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я бы один челове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 должен быть вклю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6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4319640" y="3716280"/>
            <a:ext cx="4716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собственной библиот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54" name="Rectangle 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8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4210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7680" y="5155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. Система пожарной сигнализации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0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12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481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. Система пожарной сигнализации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552680"/>
            <a:ext cx="81900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дании две одинаковые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ждой комнате установлено три пожарных датчика, кнопка ручного включения сигнализации и кнопка ручного отключения сигнализации. Для каждой комнаты предусмотрена сигнальная лампа. Сигнализация пожара является общей для обеих комн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 комнате срабатывает хотя бы один из датчиков, то загорается сигнальная лампа для соответствующей комнаты. Лампа гаснет, если все датчики в комнате отключе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 комнате срабатывает любые два из трех датчиков, то включается пожарная сигнализация. Сигнализация работает до тех пор, пока ее не отключат соответствующей кноп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изация может быть включена кнопк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ки вне зависимости от состояния датч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344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496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В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ДВ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ИП-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ТРМ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ПМ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СД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7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8" descr="petrov_book"/>
          <p:cNvPicPr/>
          <p:nvPr/>
        </p:nvPicPr>
        <p:blipFill>
          <a:blip r:embed="rId2"/>
          <a:stretch/>
        </p:blipFill>
        <p:spPr>
          <a:xfrm>
            <a:off x="6300720" y="3141720"/>
            <a:ext cx="2060640" cy="30877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6229440" y="3070080"/>
            <a:ext cx="2158920" cy="32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905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codesys.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 в СН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«Пр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wen.u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ай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«ОВЕН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. Хар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pport@owen.u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ая поддержка О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8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x-in"/>
          <p:cNvPicPr/>
          <p:nvPr/>
        </p:nvPicPr>
        <p:blipFill>
          <a:blip r:embed="rId1"/>
          <a:stretch/>
        </p:blipFill>
        <p:spPr>
          <a:xfrm>
            <a:off x="1116000" y="1125360"/>
            <a:ext cx="6953400" cy="553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55520" y="2743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0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2080" y="901440"/>
            <a:ext cx="76773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ператоры для работы с числа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 плавающей запятой</a:t>
            </a:r>
            <a:r>
              <a:rPr b="1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19280" y="2133720"/>
          <a:ext cx="6769080" cy="3579840"/>
        </p:xfrm>
        <a:graphic>
          <a:graphicData uri="http://schemas.openxmlformats.org/drawingml/2006/table">
            <a:tbl>
              <a:tblPr/>
              <a:tblGrid>
                <a:gridCol w="1436760"/>
                <a:gridCol w="3103560"/>
                <a:gridCol w="222876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B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12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-12.0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TRUNC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4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4.32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EXPT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8</a:t>
                      </a: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2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QRT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5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25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5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6" name="Rectangle 6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62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2552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5200" y="863640"/>
            <a:ext cx="76676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огарифмические оператор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79480" y="177804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логарифмов и экспон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49200" y="3068640"/>
          <a:ext cx="7139160" cy="2930400"/>
        </p:xfrm>
        <a:graphic>
          <a:graphicData uri="http://schemas.openxmlformats.org/drawingml/2006/table">
            <a:tbl>
              <a:tblPr/>
              <a:tblGrid>
                <a:gridCol w="1943280"/>
                <a:gridCol w="3106800"/>
                <a:gridCol w="208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EXP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Result = 7.389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  if A = 2 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2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if A = 7.389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OG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3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if A = 1000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54" descr=""/>
          <p:cNvPicPr/>
          <p:nvPr/>
        </p:nvPicPr>
        <p:blipFill>
          <a:blip r:embed="rId1"/>
          <a:stretch/>
        </p:blipFill>
        <p:spPr>
          <a:xfrm>
            <a:off x="3706920" y="3695760"/>
            <a:ext cx="2124000" cy="217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85" name="Rectangle 5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4560" y="342720"/>
            <a:ext cx="779616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Тригонометрические оператор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03280" y="1700280"/>
          <a:ext cx="7043760" cy="4049640"/>
        </p:xfrm>
        <a:graphic>
          <a:graphicData uri="http://schemas.openxmlformats.org/drawingml/2006/table">
            <a:tbl>
              <a:tblPr/>
              <a:tblGrid>
                <a:gridCol w="1513080"/>
                <a:gridCol w="3371760"/>
                <a:gridCol w="2158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I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SI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CO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CO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A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TA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7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7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1" name="Rectangle 7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07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2238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ределенные блоки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58880" y="1938240"/>
            <a:ext cx="77738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остоит из объектов, которые могу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использованы в различ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иблиотеку могут входить программные компоненты, списки переменных, визуализаци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может создавать и использов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 библи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блиоте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.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8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ая библиоте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38560" y="2158560"/>
            <a:ext cx="4325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работы со стро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кторы фр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ет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й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04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52:08Z</dcterms:created>
  <dc:creator/>
  <dc:description/>
  <dc:language>en-US</dc:language>
  <cp:lastModifiedBy>Елена Владимировна Краснобай</cp:lastModifiedBy>
  <dcterms:modified xsi:type="dcterms:W3CDTF">2015-08-14T11:51:23Z</dcterms:modified>
  <cp:revision>80</cp:revision>
  <dc:subject/>
  <dc:title>NG-lab</dc:title>
</cp:coreProperties>
</file>