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871075" cy="6742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871200" cy="674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592240" y="-36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49720" y="504360"/>
            <a:ext cx="3371760" cy="25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87480" y="3201840"/>
            <a:ext cx="7897680" cy="30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03680"/>
            <a:ext cx="42768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592240" y="6403680"/>
            <a:ext cx="427860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9CD3-B338-4322-A2DA-7D8221D075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F943-3B96-40F8-9A44-4C7D7C6C50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3FBD-736A-44D8-BDC9-4104BDB102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316160" y="3211560"/>
            <a:ext cx="724032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D88F-C244-47CB-BA69-3AED5AA68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6986C-760B-4D5E-A693-E137E2E3CA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E7BE-2655-4120-B93C-3EF79A02B4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8C84E-7B0A-4986-A46B-175799B3E0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F3D0-FF82-43FC-99EE-B1D2A0E495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7FCC-6C93-4E87-BA8A-C42F16F6BA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3370320" y="590400"/>
            <a:ext cx="3136680" cy="23529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312920" y="3211200"/>
            <a:ext cx="72468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03FB-6BF5-409F-987E-3359E2991F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CEF-5456-4DDC-BEED-30ABB12730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1160-9004-4D2C-A37A-CFEEEF4935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6820-AA1B-4A0E-8642-C27725C19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C91D-DEA3-440B-97A3-CBC8C5EE51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D4B3-4C6B-445E-9CF9-E2096C6334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3072-66F4-4D34-B741-C118A8A13F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0CBA-3EF6-469A-AF63-C029ED7FB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0BAF-45E3-47BB-8295-36C56E9005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3779A-6CFC-4CFB-A328-87DB57AA1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A175-3BDB-4A61-8118-83B9B1553E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74E-A90D-4541-9453-78FF3BAE2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592600" y="6404040"/>
            <a:ext cx="42786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DA24-1E72-4B5E-A486-88DDB87754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3368520" y="588960"/>
            <a:ext cx="3138480" cy="2354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312920" y="3211560"/>
            <a:ext cx="7246800" cy="3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D15-A3FA-404D-97AD-59EAA8C58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D077-4E2E-4452-98CE-D600B5D1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CDB-DB0A-40A6-BA84-CA9508BC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BCCB-90B2-4203-873D-7A5AD283C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8BB7-3A73-4809-94D2-2AB0C85ED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23C-DD4F-46AA-B84E-E983CEBE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A7E-0EFC-48AD-B387-AC19B6FA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EFD-C5F8-49AF-8BFE-77352193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6043-BED0-4E6B-9DB0-BE15683CA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86AB-DB00-4C9B-BC08-285DA4976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C50-5163-494B-8540-DA021F92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7D6D-8BA0-4642-A343-15F67024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3b3b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3720-5820-4C3A-A54B-9EE92A09C3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wen.ua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79280" y="907920"/>
            <a:ext cx="8675640" cy="27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граммирова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ПЛК ОВ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сред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DeSys 2.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знакомительный учебный курс (1 ден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77120" y="5805360"/>
            <a:ext cx="6279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федра АХТС и ЭКМ НТУ «ХПИ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егиональный учебный центр компании ОВ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foto-plk100_pravo"/>
          <p:cNvPicPr/>
          <p:nvPr/>
        </p:nvPicPr>
        <p:blipFill>
          <a:blip r:embed="rId2"/>
          <a:stretch/>
        </p:blipFill>
        <p:spPr>
          <a:xfrm>
            <a:off x="4356000" y="3789360"/>
            <a:ext cx="27370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83720" y="549360"/>
            <a:ext cx="7378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фай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информация о типе и характеристиках используемого ПЛ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ерсия «прошивк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10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.е. внутреннее программное обеспечение ПЛ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К150-220.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  =  target PLC150-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К150-220.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  =  target PLC150-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тановк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а -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stallTarget.e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робности в руководстве по эксплуата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ключени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й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сурс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стройки целевой платф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332000" y="4941720"/>
            <a:ext cx="6257880" cy="1584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21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824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ходы и выходы ПЛ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раиваются в ресурс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нфигурация П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ete inpu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е в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screte output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ретные вых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in-out"/>
          <p:cNvPicPr/>
          <p:nvPr/>
        </p:nvPicPr>
        <p:blipFill>
          <a:blip r:embed="rId1"/>
          <a:stretch/>
        </p:blipFill>
        <p:spPr>
          <a:xfrm>
            <a:off x="2268360" y="3068640"/>
            <a:ext cx="4254840" cy="3375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27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4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789360" y="177336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728640" y="269388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801880" y="2708280"/>
            <a:ext cx="1727280" cy="825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ипы да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6659640" y="2693880"/>
            <a:ext cx="1927080" cy="459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116000" y="5229360"/>
            <a:ext cx="2087640" cy="1008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ы, фун. блоки,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 flipH="1">
            <a:off x="2126880" y="2276640"/>
            <a:ext cx="166212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5718240" y="2276640"/>
            <a:ext cx="132876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4013280" y="2276640"/>
            <a:ext cx="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0"/>
          <p:cNvSpPr/>
          <p:nvPr/>
        </p:nvSpPr>
        <p:spPr>
          <a:xfrm>
            <a:off x="795240" y="4135320"/>
            <a:ext cx="33192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1"/>
          <p:cNvSpPr/>
          <p:nvPr/>
        </p:nvSpPr>
        <p:spPr>
          <a:xfrm>
            <a:off x="784080" y="580536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2"/>
          <p:cNvSpPr/>
          <p:nvPr/>
        </p:nvSpPr>
        <p:spPr>
          <a:xfrm flipV="1">
            <a:off x="784080" y="3198960"/>
            <a:ext cx="11160" cy="2606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7058160" y="5516640"/>
            <a:ext cx="1906560" cy="7038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лобальные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7058160" y="4782960"/>
            <a:ext cx="1927080" cy="3988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6727680" y="413532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6727680" y="4998960"/>
            <a:ext cx="33048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V="1">
            <a:off x="6699240" y="3198600"/>
            <a:ext cx="28440" cy="26780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4702320" y="2708280"/>
            <a:ext cx="1790640" cy="825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и-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>
            <a:off x="5584680" y="2276640"/>
            <a:ext cx="0" cy="43164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94880" y="609480"/>
            <a:ext cx="77374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роек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1"/>
          <p:cNvSpPr/>
          <p:nvPr/>
        </p:nvSpPr>
        <p:spPr>
          <a:xfrm>
            <a:off x="6699240" y="5877000"/>
            <a:ext cx="331920" cy="0"/>
          </a:xfrm>
          <a:prstGeom prst="line">
            <a:avLst/>
          </a:prstGeom>
          <a:ln w="25560">
            <a:solidFill>
              <a:srgbClr val="80808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7031160" y="3860640"/>
            <a:ext cx="1927080" cy="7038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ы и вы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1114560" y="3860640"/>
            <a:ext cx="2060280" cy="10087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окаль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нутренн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3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3" name="Rectangle 3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3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7" dur="250" autoRev="1" fill="hold"/>
                                        <p:tgtEl>
                                          <p:spTgt spid="1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10920" y="692280"/>
            <a:ext cx="8242200" cy="62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ект в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14120" y="1981080"/>
            <a:ext cx="7561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ранится в одном файле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name.p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держит программные компоненты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визуализации, ресурс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ение приложения начинается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 PLC_PR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ог функции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яется цикличе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8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59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" dur="250" autoRev="1" fill="hold"/>
                                        <p:tgtEl>
                                          <p:spTgt spid="1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00000" y="907920"/>
            <a:ext cx="7655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авная программа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PLC_PRG</a:t>
            </a:r>
            <a:br>
              <a:rPr sz="32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зывается циклически системой исполн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050920" y="2637000"/>
            <a:ext cx="2826000" cy="39574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5015160" y="35146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5036400" y="5043600"/>
            <a:ext cx="10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6"/>
          <p:cNvSpPr/>
          <p:nvPr/>
        </p:nvSpPr>
        <p:spPr>
          <a:xfrm>
            <a:off x="5996160" y="3703680"/>
            <a:ext cx="1168200" cy="66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69160" y="3789360"/>
            <a:ext cx="119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ны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024600" y="5357880"/>
            <a:ext cx="1204920" cy="666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6113520" y="5407200"/>
            <a:ext cx="1184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ходны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гист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7274160" y="376704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7274160" y="5423040"/>
            <a:ext cx="129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Физические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ых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 rot="10800000">
            <a:off x="6830640" y="4322880"/>
            <a:ext cx="1198440" cy="342720"/>
          </a:xfrm>
          <a:custGeom>
            <a:avLst/>
            <a:gdLst>
              <a:gd name="textAreaLeft" fmla="*/ 209520 w 1198440"/>
              <a:gd name="textAreaRight" fmla="*/ 869040 w 1198440"/>
              <a:gd name="textAreaTop" fmla="*/ 45720 h 342720"/>
              <a:gd name="textAreaBottom" fmla="*/ 297000 h 34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5214960" y="3948120"/>
            <a:ext cx="647640" cy="88920"/>
          </a:xfrm>
          <a:prstGeom prst="leftArrow">
            <a:avLst>
              <a:gd name="adj1" fmla="val 50000"/>
              <a:gd name="adj2" fmla="val 18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14"/>
          <p:cNvSpPr/>
          <p:nvPr/>
        </p:nvSpPr>
        <p:spPr>
          <a:xfrm rot="10800000">
            <a:off x="5214600" y="5659200"/>
            <a:ext cx="647640" cy="88920"/>
          </a:xfrm>
          <a:prstGeom prst="leftArrow">
            <a:avLst>
              <a:gd name="adj1" fmla="val 50000"/>
              <a:gd name="adj2" fmla="val 18208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7031160" y="5950080"/>
            <a:ext cx="1130040" cy="352440"/>
          </a:xfrm>
          <a:custGeom>
            <a:avLst/>
            <a:gdLst>
              <a:gd name="textAreaLeft" fmla="*/ 197640 w 1130040"/>
              <a:gd name="textAreaRight" fmla="*/ 819360 w 1130040"/>
              <a:gd name="textAreaTop" fmla="*/ 47160 h 352440"/>
              <a:gd name="textAreaBottom" fmla="*/ 305280 h 3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77" name="Rectangle 2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2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68560" y="1348920"/>
            <a:ext cx="736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Настройка времени цикла</a:t>
            </a:r>
            <a:br>
              <a:rPr sz="3600"/>
            </a:br>
            <a:br>
              <a:rPr sz="3600"/>
            </a:b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Производится в ресурсе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Конфигурация ПЛК </a:t>
            </a: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на вкладке </a:t>
            </a:r>
            <a:r>
              <a:rPr b="0" i="1" lang="ru-RU" sz="2000" spc="-1" strike="noStrike">
                <a:solidFill>
                  <a:srgbClr val="000000"/>
                </a:solidFill>
                <a:latin typeface="Arial Black"/>
              </a:rPr>
              <a:t>Параметры моду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комендуемое значение: 5 .. 10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3" descr="mincyclelength"/>
          <p:cNvPicPr/>
          <p:nvPr/>
        </p:nvPicPr>
        <p:blipFill>
          <a:blip r:embed="rId1"/>
          <a:stretch/>
        </p:blipFill>
        <p:spPr>
          <a:xfrm>
            <a:off x="1116000" y="3500280"/>
            <a:ext cx="6883560" cy="23623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82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83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6" dur="250" autoRev="1" fill="hold"/>
                                        <p:tgtEl>
                                          <p:spTgt spid="1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71280" y="705960"/>
            <a:ext cx="7561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Язык функциональных блоков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F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7" descr="блок-CFC"/>
          <p:cNvPicPr/>
          <p:nvPr/>
        </p:nvPicPr>
        <p:blipFill>
          <a:blip r:embed="rId2"/>
          <a:stretch/>
        </p:blipFill>
        <p:spPr>
          <a:xfrm>
            <a:off x="1116000" y="306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8" descr="входCFC"/>
          <p:cNvPicPr/>
          <p:nvPr/>
        </p:nvPicPr>
        <p:blipFill>
          <a:blip r:embed="rId3"/>
          <a:stretch/>
        </p:blipFill>
        <p:spPr>
          <a:xfrm>
            <a:off x="1116000" y="162864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выходCFC"/>
          <p:cNvPicPr/>
          <p:nvPr/>
        </p:nvPicPr>
        <p:blipFill>
          <a:blip r:embed="rId4"/>
          <a:stretch/>
        </p:blipFill>
        <p:spPr>
          <a:xfrm>
            <a:off x="1116000" y="23479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0" descr="инверсия-CFC"/>
          <p:cNvPicPr/>
          <p:nvPr/>
        </p:nvPicPr>
        <p:blipFill>
          <a:blip r:embed="rId5"/>
          <a:stretch/>
        </p:blipFill>
        <p:spPr>
          <a:xfrm>
            <a:off x="1116000" y="3789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комментарий-CFC"/>
          <p:cNvPicPr/>
          <p:nvPr/>
        </p:nvPicPr>
        <p:blipFill>
          <a:blip r:embed="rId6"/>
          <a:stretch/>
        </p:blipFill>
        <p:spPr>
          <a:xfrm>
            <a:off x="1116000" y="6093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2" descr="set_reset-CFC"/>
          <p:cNvPicPr/>
          <p:nvPr/>
        </p:nvPicPr>
        <p:blipFill>
          <a:blip r:embed="rId7"/>
          <a:stretch/>
        </p:blipFill>
        <p:spPr>
          <a:xfrm>
            <a:off x="1116000" y="450864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3" descr="en-CFC"/>
          <p:cNvPicPr/>
          <p:nvPr/>
        </p:nvPicPr>
        <p:blipFill>
          <a:blip r:embed="rId8"/>
          <a:stretch/>
        </p:blipFill>
        <p:spPr>
          <a:xfrm>
            <a:off x="1116000" y="530064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4"/>
          <p:cNvSpPr/>
          <p:nvPr/>
        </p:nvSpPr>
        <p:spPr>
          <a:xfrm>
            <a:off x="1908000" y="1628640"/>
            <a:ext cx="3384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ход – вызов пе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1908000" y="2349360"/>
            <a:ext cx="5256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 – запись пе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1908000" y="3068640"/>
            <a:ext cx="525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 – вызов опера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7"/>
          <p:cNvSpPr/>
          <p:nvPr/>
        </p:nvSpPr>
        <p:spPr>
          <a:xfrm>
            <a:off x="1908000" y="3789360"/>
            <a:ext cx="5256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р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8"/>
          <p:cNvSpPr/>
          <p:nvPr/>
        </p:nvSpPr>
        <p:spPr>
          <a:xfrm>
            <a:off x="1908000" y="4508640"/>
            <a:ext cx="63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/Reset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и установки / сброса зна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9"/>
          <p:cNvSpPr/>
          <p:nvPr/>
        </p:nvSpPr>
        <p:spPr>
          <a:xfrm>
            <a:off x="1908000" y="5300640"/>
            <a:ext cx="6336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/ENO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авление разрешающего в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20"/>
          <p:cNvSpPr/>
          <p:nvPr/>
        </p:nvSpPr>
        <p:spPr>
          <a:xfrm>
            <a:off x="1908000" y="6093000"/>
            <a:ext cx="63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мента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2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02" name="Rectangle 2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2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9" dur="25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581120" y="2565360"/>
          <a:ext cx="6230880" cy="3425760"/>
        </p:xfrm>
        <a:graphic>
          <a:graphicData uri="http://schemas.openxmlformats.org/drawingml/2006/table">
            <a:tbl>
              <a:tblPr/>
              <a:tblGrid>
                <a:gridCol w="1419120"/>
                <a:gridCol w="2556000"/>
                <a:gridCol w="22557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N / 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OT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IF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HEN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X :=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RU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ND_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 / 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IF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A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THEN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X := </a:t>
                      </a: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FALSE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;</a:t>
                      </a:r>
                      <a:br>
                        <a:rPr sz="1800"/>
                      </a:br>
                      <a:r>
                        <a:rPr b="1" lang="en-GB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ND_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44560" y="847440"/>
            <a:ext cx="75960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ы присва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0" descr="присваивание"/>
          <p:cNvPicPr/>
          <p:nvPr/>
        </p:nvPicPr>
        <p:blipFill>
          <a:blip r:embed="rId1"/>
          <a:stretch/>
        </p:blipFill>
        <p:spPr>
          <a:xfrm>
            <a:off x="3297240" y="3141720"/>
            <a:ext cx="1995480" cy="2592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4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3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09" name="Rectangle 3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4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3160" y="777600"/>
            <a:ext cx="738504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огические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247760" y="2060640"/>
          <a:ext cx="6913440" cy="4392720"/>
        </p:xfrm>
        <a:graphic>
          <a:graphicData uri="http://schemas.openxmlformats.org/drawingml/2006/table">
            <a:tbl>
              <a:tblPr/>
              <a:tblGrid>
                <a:gridCol w="1397160"/>
                <a:gridCol w="2854080"/>
                <a:gridCol w="2662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B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9730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OT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)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ND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0836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OR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3716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A </a:t>
                      </a:r>
                      <a:r>
                        <a:rPr b="1" lang="de-DE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XOR</a:t>
                      </a: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Picture 29" descr="and-or"/>
          <p:cNvPicPr/>
          <p:nvPr/>
        </p:nvPicPr>
        <p:blipFill>
          <a:blip r:embed="rId1"/>
          <a:stretch/>
        </p:blipFill>
        <p:spPr>
          <a:xfrm>
            <a:off x="2909880" y="2708280"/>
            <a:ext cx="2409840" cy="37116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0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15" name="Group 3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16" name="Rectangle 3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 Box 3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250" autoRev="1" fill="hold"/>
                                        <p:tgtEl>
                                          <p:spTgt spid="2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923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мер: управление кот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0920" y="1052280"/>
            <a:ext cx="73054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ие сигнализации при возникновении любой из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котла при возникновении любой из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ключение котла с кнопки, при условии отсутствия ава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котла с кноп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22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2" descr="visu_tool"/>
          <p:cNvPicPr/>
          <p:nvPr/>
        </p:nvPicPr>
        <p:blipFill>
          <a:blip r:embed="rId2"/>
          <a:stretch/>
        </p:blipFill>
        <p:spPr>
          <a:xfrm>
            <a:off x="4572000" y="3645000"/>
            <a:ext cx="4356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2"/>
          <p:cNvSpPr/>
          <p:nvPr/>
        </p:nvSpPr>
        <p:spPr>
          <a:xfrm>
            <a:off x="900000" y="1989000"/>
            <a:ext cx="7704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дущая система программирования ПЛК в ми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укт германской компан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S-soft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а, разработанная в соответствии с международным стандартом МЭК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6113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ользователей ОВЕН ПЛ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Sy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яется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есплат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1403280" y="692280"/>
            <a:ext cx="58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56" name="Rectangle 1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связи</a:t>
            </a:r>
            <a:br>
              <a:rPr sz="2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подробнее в руководстве по эксплуатаци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14000" y="980640"/>
            <a:ext cx="6381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аметры связ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-23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comm-param"/>
          <p:cNvPicPr/>
          <p:nvPr/>
        </p:nvPicPr>
        <p:blipFill>
          <a:blip r:embed="rId1"/>
          <a:stretch/>
        </p:blipFill>
        <p:spPr>
          <a:xfrm>
            <a:off x="1547640" y="2060640"/>
            <a:ext cx="6446880" cy="43927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0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5" dur="250" autoRev="1" fill="hold"/>
                                        <p:tgtEl>
                                          <p:spTgt spid="2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314000" y="980640"/>
            <a:ext cx="6381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раметры связ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еню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eth-param"/>
          <p:cNvPicPr/>
          <p:nvPr/>
        </p:nvPicPr>
        <p:blipFill>
          <a:blip r:embed="rId1"/>
          <a:stretch/>
        </p:blipFill>
        <p:spPr>
          <a:xfrm>
            <a:off x="1547640" y="2060640"/>
            <a:ext cx="6578640" cy="4262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37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03440" y="609480"/>
            <a:ext cx="773712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Визу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3985920" cy="31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ступ ко всем данным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фическое отображение логических и числовых значений, текстовых сооб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од  логических и числовых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ение графических объе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роение графиков и архив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visu_prg1"/>
          <p:cNvPicPr/>
          <p:nvPr/>
        </p:nvPicPr>
        <p:blipFill>
          <a:blip r:embed="rId1"/>
          <a:srcRect l="21115" t="10489" r="0" b="0"/>
          <a:stretch/>
        </p:blipFill>
        <p:spPr>
          <a:xfrm>
            <a:off x="4643280" y="1413000"/>
            <a:ext cx="4105440" cy="3956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9"/>
          <p:cNvSpPr/>
          <p:nvPr/>
        </p:nvSpPr>
        <p:spPr>
          <a:xfrm>
            <a:off x="684360" y="5587920"/>
            <a:ext cx="8064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полнительное приложение – проигрыватель визуализаци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DeSys H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45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0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хранение проекта в памяти П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4" descr="createbootproject"/>
          <p:cNvPicPr/>
          <p:nvPr/>
        </p:nvPicPr>
        <p:blipFill>
          <a:blip r:embed="rId1"/>
          <a:stretch/>
        </p:blipFill>
        <p:spPr>
          <a:xfrm>
            <a:off x="3059280" y="1741320"/>
            <a:ext cx="5248080" cy="51166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5840" y="2276640"/>
            <a:ext cx="444672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ь необходимый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язаться с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«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оздание загрузочного про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2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2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900000" y="1844640"/>
          <a:ext cx="7588440" cy="2925720"/>
        </p:xfrm>
        <a:graphic>
          <a:graphicData uri="http://schemas.openxmlformats.org/drawingml/2006/table">
            <a:tbl>
              <a:tblPr/>
              <a:tblGrid>
                <a:gridCol w="2743200"/>
                <a:gridCol w="2468520"/>
                <a:gridCol w="2376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ючевое слов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паз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LSE, TRUE, 0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, INT, D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28 .. 127, -32768 .. 32767,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47483648 .. 2147483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 24453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80998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, WORD, D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.. 255,   0 .. 65535,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.. 42949672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50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#2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, L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2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8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..  3.4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08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  1.7x 10</a:t>
                      </a:r>
                      <a:r>
                        <a:rPr b="0" lang="en-GB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4996</a:t>
                      </a:r>
                      <a:br>
                        <a:rPr sz="1400"/>
                      </a:b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377E-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.. 255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`Emergency Stop`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03440" y="60912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Стандартные типы данн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54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58" name="Rectangle 55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56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250" autoRev="1" fill="hold"/>
                                        <p:tgtEl>
                                          <p:spTgt spid="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 Black"/>
              </a:rPr>
              <a:t>Имена переме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341360"/>
            <a:ext cx="7989840" cy="450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квы и цифры английского язы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я должно начинаться с букв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лько одинарные подчеркиван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пробело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льзя использовать зарезервированные слова  МЭК и опера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, VAR, WORD, PROGRA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 букв не различае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684360" y="4508640"/>
            <a:ext cx="553860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"/>
          <p:cNvPicPr/>
          <p:nvPr/>
        </p:nvPicPr>
        <p:blipFill>
          <a:blip r:embed="rId2"/>
          <a:stretch/>
        </p:blipFill>
        <p:spPr>
          <a:xfrm>
            <a:off x="1042920" y="5229360"/>
            <a:ext cx="7489800" cy="138564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66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4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Конфигурирование аналоговых в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3" descr="ai_config1"/>
          <p:cNvPicPr/>
          <p:nvPr/>
        </p:nvPicPr>
        <p:blipFill>
          <a:blip r:embed="rId1"/>
          <a:stretch/>
        </p:blipFill>
        <p:spPr>
          <a:xfrm>
            <a:off x="1116000" y="1413000"/>
            <a:ext cx="4564080" cy="26575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4" descr="ai_config2"/>
          <p:cNvPicPr/>
          <p:nvPr/>
        </p:nvPicPr>
        <p:blipFill>
          <a:blip r:embed="rId2"/>
          <a:stretch/>
        </p:blipFill>
        <p:spPr>
          <a:xfrm>
            <a:off x="3243240" y="4221000"/>
            <a:ext cx="521352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2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3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25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ловный оператор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68560" y="1773360"/>
            <a:ext cx="797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условие»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EN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Логическая переменная или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1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перации, которые 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2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роизводить при выполнении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3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LSE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перации, которые необходим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йстви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производить при НЕвыполнении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END_IF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Окончание описания усло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8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79" name="Rectangle 9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10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0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250" autoRev="1" fill="hold"/>
                                        <p:tgtEl>
                                          <p:spTgt spid="2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6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р: терморегулятор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1760" y="2216160"/>
            <a:ext cx="474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е температуры с датчика 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50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85_500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аналоговом вх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изацию о выходе за заданную уставку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по умолчани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ключение сигнализации после уменьшения температуры ниже заданного уставки 2 (по умолчанию 100 гр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8" descr=""/>
          <p:cNvPicPr/>
          <p:nvPr/>
        </p:nvPicPr>
        <p:blipFill>
          <a:blip r:embed="rId2"/>
          <a:stretch/>
        </p:blipFill>
        <p:spPr>
          <a:xfrm>
            <a:off x="5076720" y="1557360"/>
            <a:ext cx="3867120" cy="29242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286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0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3" dur="25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9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1476360" y="1916280"/>
            <a:ext cx="5472000" cy="32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жим эмуляции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Alt+F8]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лючение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F8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рт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5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п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Shift+F8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03440" y="909360"/>
            <a:ext cx="7989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команды режима Онл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Object 4"/>
          <p:cNvGraphicFramePr/>
          <p:nvPr/>
        </p:nvGraphicFramePr>
        <p:xfrm>
          <a:off x="1155600" y="2492280"/>
          <a:ext cx="320760" cy="36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5600" y="2492280"/>
                    <a:ext cx="3207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Object 5"/>
          <p:cNvGraphicFramePr/>
          <p:nvPr/>
        </p:nvGraphicFramePr>
        <p:xfrm>
          <a:off x="1154160" y="3643200"/>
          <a:ext cx="322200" cy="36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54160" y="3643200"/>
                    <a:ext cx="32220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6"/>
          <p:cNvGraphicFramePr/>
          <p:nvPr/>
        </p:nvGraphicFramePr>
        <p:xfrm>
          <a:off x="1155600" y="4148280"/>
          <a:ext cx="320760" cy="36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55600" y="4148280"/>
                    <a:ext cx="3207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7"/>
          <p:cNvGraphicFramePr/>
          <p:nvPr/>
        </p:nvGraphicFramePr>
        <p:xfrm>
          <a:off x="1155600" y="3068640"/>
          <a:ext cx="320760" cy="36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7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55600" y="3068640"/>
                    <a:ext cx="3207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Picture 9" descr="овен_лого"/>
          <p:cNvPicPr/>
          <p:nvPr/>
        </p:nvPicPr>
        <p:blipFill>
          <a:blip r:embed="rId9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299" name="Group 13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0" name="Rectangle 14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5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0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250" autoRev="1" fill="hold"/>
                                        <p:tgtEl>
                                          <p:spTgt spid="2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03440" y="672840"/>
            <a:ext cx="7737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мплекс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11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61" name="Rectangle 12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17" descr=""/>
          <p:cNvPicPr/>
          <p:nvPr/>
        </p:nvPicPr>
        <p:blipFill>
          <a:blip r:embed="rId2"/>
          <a:srcRect l="19881" t="13147" r="24611" b="8418"/>
          <a:stretch/>
        </p:blipFill>
        <p:spPr>
          <a:xfrm>
            <a:off x="1547640" y="1341360"/>
            <a:ext cx="648036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00000" y="2211480"/>
            <a:ext cx="797580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 цик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ключить точку останов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9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шаговая отладка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[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сать значения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r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+F7]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03440" y="909360"/>
            <a:ext cx="79898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команды режима Онлай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05" name="Group 42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06" name="Rectangle 43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4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3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731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создании нового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55520" y="2071800"/>
            <a:ext cx="7172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аза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фай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вашего ПЛ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главную программу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C_PR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я цик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-1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ь необходимы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еменны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храни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ое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11" name="Group 1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12" name="Rectangle 1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1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25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34640" y="639720"/>
            <a:ext cx="538668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ператоры срав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1619280" y="2276640"/>
          <a:ext cx="5832360" cy="4054320"/>
        </p:xfrm>
        <a:graphic>
          <a:graphicData uri="http://schemas.openxmlformats.org/drawingml/2006/table">
            <a:tbl>
              <a:tblPr/>
              <a:tblGrid>
                <a:gridCol w="1766880"/>
                <a:gridCol w="1484280"/>
                <a:gridCol w="2581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EQ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&g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gt;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G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g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=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 </a:t>
                      </a:r>
                      <a:r>
                        <a:rPr b="0" lang="de-DE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(A &lt; 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Rectangle 37"/>
          <p:cNvSpPr/>
          <p:nvPr/>
        </p:nvSpPr>
        <p:spPr>
          <a:xfrm>
            <a:off x="3938760" y="2708280"/>
            <a:ext cx="5619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8"/>
          <p:cNvSpPr/>
          <p:nvPr/>
        </p:nvSpPr>
        <p:spPr>
          <a:xfrm>
            <a:off x="3924360" y="3332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39"/>
          <p:cNvSpPr/>
          <p:nvPr/>
        </p:nvSpPr>
        <p:spPr>
          <a:xfrm>
            <a:off x="3924360" y="393372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0"/>
          <p:cNvSpPr/>
          <p:nvPr/>
        </p:nvSpPr>
        <p:spPr>
          <a:xfrm>
            <a:off x="3924360" y="4556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1"/>
          <p:cNvSpPr/>
          <p:nvPr/>
        </p:nvSpPr>
        <p:spPr>
          <a:xfrm>
            <a:off x="3924360" y="515772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2"/>
          <p:cNvSpPr/>
          <p:nvPr/>
        </p:nvSpPr>
        <p:spPr>
          <a:xfrm>
            <a:off x="3924360" y="578016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3"/>
          <p:cNvSpPr/>
          <p:nvPr/>
        </p:nvSpPr>
        <p:spPr>
          <a:xfrm>
            <a:off x="1405080" y="144792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для работы со всеми тип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0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4" name="Group 5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25" name="Rectangle 5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5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250" autoRev="1" fill="hold"/>
                                        <p:tgtEl>
                                          <p:spTgt spid="3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80960" y="726840"/>
            <a:ext cx="6470640" cy="46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Арифметические 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619280" y="2565360"/>
          <a:ext cx="5545080" cy="2835360"/>
        </p:xfrm>
        <a:graphic>
          <a:graphicData uri="http://schemas.openxmlformats.org/drawingml/2006/table">
            <a:tbl>
              <a:tblPr/>
              <a:tblGrid>
                <a:gridCol w="1760400"/>
                <a:gridCol w="1484280"/>
                <a:gridCol w="2300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F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AD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+ 1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- 4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* B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D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5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:= A / 8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9" name="Rectangle 33"/>
          <p:cNvSpPr/>
          <p:nvPr/>
        </p:nvSpPr>
        <p:spPr>
          <a:xfrm>
            <a:off x="3863880" y="299736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4"/>
          <p:cNvSpPr/>
          <p:nvPr/>
        </p:nvSpPr>
        <p:spPr>
          <a:xfrm>
            <a:off x="3863880" y="361944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5"/>
          <p:cNvSpPr/>
          <p:nvPr/>
        </p:nvSpPr>
        <p:spPr>
          <a:xfrm>
            <a:off x="3863880" y="422100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6"/>
          <p:cNvSpPr/>
          <p:nvPr/>
        </p:nvSpPr>
        <p:spPr>
          <a:xfrm>
            <a:off x="3863880" y="4843440"/>
            <a:ext cx="5637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8"/>
          <p:cNvSpPr/>
          <p:nvPr/>
        </p:nvSpPr>
        <p:spPr>
          <a:xfrm>
            <a:off x="893880" y="1359000"/>
            <a:ext cx="778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ют алгебраические операции над целыми числа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NT, WORD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числами с плавающей запято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3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4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36" name="Rectangle 5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5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2"/>
          <p:cNvSpPr/>
          <p:nvPr/>
        </p:nvSpPr>
        <p:spPr>
          <a:xfrm>
            <a:off x="1368360" y="1143000"/>
            <a:ext cx="7596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назначены для ограничения и выбора знач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с любыми типами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1890720" y="2214720"/>
          <a:ext cx="6014880" cy="4384440"/>
        </p:xfrm>
        <a:graphic>
          <a:graphicData uri="http://schemas.openxmlformats.org/drawingml/2006/table">
            <a:tbl>
              <a:tblPr/>
              <a:tblGrid>
                <a:gridCol w="1363680"/>
                <a:gridCol w="1598760"/>
                <a:gridCol w="30524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т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B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IN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B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AX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1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I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8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LIMIT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-8,A,5)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-8 if A &lt; -8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5 if A &gt; 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8632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SEL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10,B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10 if A is FALSE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B if A is TRU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   </a:t>
                      </a:r>
                      <a:r>
                        <a:rPr b="0" lang="en-GB" sz="12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-       -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-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76320" bIns="76320" anchor="t">
                      <a:noAutofit/>
                    </a:bodyPr>
                    <a:p>
                      <a:pPr>
                        <a:lnSpc>
                          <a:spcPts val="1397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X := </a:t>
                      </a:r>
                      <a:r>
                        <a:rPr b="0" lang="en-GB" sz="16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MUX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A,0,10,B);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0 if A is 0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10 if A is 1</a:t>
                      </a:r>
                      <a:br>
                        <a:rPr sz="1600"/>
                      </a:br>
                      <a:r>
                        <a:rPr b="1" i="1" lang="de-DE" sz="1600" spc="-1" strike="noStrike">
                          <a:solidFill>
                            <a:srgbClr val="ff0000"/>
                          </a:solidFill>
                          <a:latin typeface="Courier New"/>
                        </a:rPr>
                        <a:t>X = B if A is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760400" y="512280"/>
            <a:ext cx="6051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ператоры выбора</a:t>
            </a: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53"/>
          <p:cNvSpPr/>
          <p:nvPr/>
        </p:nvSpPr>
        <p:spPr>
          <a:xfrm>
            <a:off x="3767040" y="5619600"/>
            <a:ext cx="561960" cy="7621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4"/>
          <p:cNvSpPr/>
          <p:nvPr/>
        </p:nvSpPr>
        <p:spPr>
          <a:xfrm>
            <a:off x="3772080" y="4754520"/>
            <a:ext cx="561960" cy="609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5"/>
          <p:cNvSpPr/>
          <p:nvPr/>
        </p:nvSpPr>
        <p:spPr>
          <a:xfrm>
            <a:off x="3753000" y="2647800"/>
            <a:ext cx="56340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6"/>
          <p:cNvSpPr/>
          <p:nvPr/>
        </p:nvSpPr>
        <p:spPr>
          <a:xfrm>
            <a:off x="3763800" y="3270240"/>
            <a:ext cx="561960" cy="45720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7"/>
          <p:cNvSpPr/>
          <p:nvPr/>
        </p:nvSpPr>
        <p:spPr>
          <a:xfrm>
            <a:off x="3776760" y="3889440"/>
            <a:ext cx="561960" cy="60948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58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5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48" name="Rectangle 6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 Box 6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0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250" autoRev="1" fill="hold"/>
                                        <p:tgtEl>
                                          <p:spTgt spid="3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368360" y="1519200"/>
            <a:ext cx="759636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сваивает значение слева переменной спр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ются с любыми типами дан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оявлении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а вход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яется, иначе операция игнориру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уется с любыми операторами 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71280" y="657360"/>
            <a:ext cx="7561080" cy="68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Оператор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move </a:t>
            </a: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и разрешающий вход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39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3" name="Group 40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54" name="Rectangle 41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6" name="Picture 43" descr=""/>
          <p:cNvPicPr/>
          <p:nvPr/>
        </p:nvPicPr>
        <p:blipFill>
          <a:blip r:embed="rId2"/>
          <a:stretch/>
        </p:blipFill>
        <p:spPr>
          <a:xfrm>
            <a:off x="2484360" y="4508640"/>
            <a:ext cx="451656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nodeType="clickEffect" fill="hold">
                      <p:stCondLst>
                        <p:cond delay="0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4" dur="250" autoRev="1" fill="hold"/>
                                        <p:tgtEl>
                                          <p:spTgt spid="3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Приме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 ручное управление клапаном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46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о реализо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вное увеличение и уменьшение степени открытия клапана с внешних кноп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дачу управляющего сигнала 4-20 мА с выхода ПЛК на клап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ображение степени открытия клапана в процен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гнализацию о достижении концевых поло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1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8" descr=""/>
          <p:cNvPicPr/>
          <p:nvPr/>
        </p:nvPicPr>
        <p:blipFill>
          <a:blip r:embed="rId2"/>
          <a:stretch/>
        </p:blipFill>
        <p:spPr>
          <a:xfrm>
            <a:off x="5219640" y="2276640"/>
            <a:ext cx="3676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0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7" dur="250" autoRev="1" fill="hold"/>
                                        <p:tgtEl>
                                          <p:spTgt spid="3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43444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Домашнее задание</a:t>
            </a: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4967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4.1 и 4.2 – типы дан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8.1 – оператор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Sy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лава 5 – программ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онент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5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368" name="Rectangle 6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7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0" name="Picture 9" descr="petrov_book"/>
          <p:cNvPicPr/>
          <p:nvPr/>
        </p:nvPicPr>
        <p:blipFill>
          <a:blip r:embed="rId2"/>
          <a:stretch/>
        </p:blipFill>
        <p:spPr>
          <a:xfrm>
            <a:off x="5867280" y="1773360"/>
            <a:ext cx="2543400" cy="3809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5796000" y="1700280"/>
            <a:ext cx="2663640" cy="39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0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6"/>
          <p:cNvSpPr/>
          <p:nvPr/>
        </p:nvSpPr>
        <p:spPr>
          <a:xfrm>
            <a:off x="1403280" y="692280"/>
            <a:ext cx="5832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55640" y="1773360"/>
            <a:ext cx="6120000" cy="27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програм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отлад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мент создания визуализ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8" descr="dbg_tool"/>
          <p:cNvPicPr/>
          <p:nvPr/>
        </p:nvPicPr>
        <p:blipFill>
          <a:blip r:embed="rId2"/>
          <a:stretch/>
        </p:blipFill>
        <p:spPr>
          <a:xfrm>
            <a:off x="4932360" y="2852640"/>
            <a:ext cx="3922560" cy="2063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prog_tool"/>
          <p:cNvPicPr/>
          <p:nvPr/>
        </p:nvPicPr>
        <p:blipFill>
          <a:blip r:embed="rId3"/>
          <a:stretch/>
        </p:blipFill>
        <p:spPr>
          <a:xfrm>
            <a:off x="5292720" y="2565360"/>
            <a:ext cx="3549600" cy="2355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visu_tool"/>
          <p:cNvPicPr/>
          <p:nvPr/>
        </p:nvPicPr>
        <p:blipFill>
          <a:blip r:embed="rId4"/>
          <a:stretch/>
        </p:blipFill>
        <p:spPr>
          <a:xfrm>
            <a:off x="5076720" y="2565360"/>
            <a:ext cx="3695760" cy="249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овен_лого"/>
          <p:cNvPicPr/>
          <p:nvPr/>
        </p:nvPicPr>
        <p:blipFill>
          <a:blip r:embed="rId5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7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2" name="Rectangle 18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9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928800" y="1614600"/>
            <a:ext cx="6164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кт диска или с сайта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wen.ua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03440" y="672840"/>
            <a:ext cx="77371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становка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124000" y="2428920"/>
            <a:ext cx="5112000" cy="417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78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79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9120" y="899640"/>
            <a:ext cx="77374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ринципы стандарта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ЭК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61131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755640" y="1943280"/>
            <a:ext cx="8164440" cy="43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 является международным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яет принципы программирования ПЛ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различных  языков 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ограммирования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: IL, FBD, LD, ST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SF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ипы программных компонентов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POU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функции, программы и функциональные бл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авила объявления и типы перем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воляет разработчику не зависеть от производителя системы программир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овен_лого"/>
          <p:cNvPicPr/>
          <p:nvPr/>
        </p:nvPicPr>
        <p:blipFill>
          <a:blip r:embed="rId1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85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5776920" cy="51483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6483240" y="2651040"/>
            <a:ext cx="2627280" cy="26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е меню и панель инструм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ласть определения переменн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енеджер объе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кно сообщ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ока стату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 flipH="1" flipV="1">
            <a:off x="3782520" y="1687680"/>
            <a:ext cx="2730600" cy="1241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 flipV="1">
            <a:off x="3300480" y="3367080"/>
            <a:ext cx="3186000" cy="6825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325520" y="4440240"/>
            <a:ext cx="513576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 flipH="1">
            <a:off x="3952800" y="4824360"/>
            <a:ext cx="252432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867280" y="5146560"/>
            <a:ext cx="581040" cy="1104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560" y="188640"/>
            <a:ext cx="773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рвый запуск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DeS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 flipH="1" flipV="1">
            <a:off x="3419280" y="2349000"/>
            <a:ext cx="3065400" cy="107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3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1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98" name="Rectangle 2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" dur="250" autoRev="1" fill="hold"/>
                                        <p:tgtEl>
                                          <p:spTgt spid="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710400" cy="44956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5767560" y="3568680"/>
            <a:ext cx="2931840" cy="1515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хра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03440" y="885600"/>
            <a:ext cx="773712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тройк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DeSys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оп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овен_лого"/>
          <p:cNvPicPr/>
          <p:nvPr/>
        </p:nvPicPr>
        <p:blipFill>
          <a:blip r:embed="rId2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05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троллер ПЛК150-220.И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3" descr="ПЛК150"/>
          <p:cNvPicPr/>
          <p:nvPr/>
        </p:nvPicPr>
        <p:blipFill>
          <a:blip r:embed="rId1"/>
          <a:stretch/>
        </p:blipFill>
        <p:spPr>
          <a:xfrm>
            <a:off x="2195640" y="1413000"/>
            <a:ext cx="6313320" cy="4944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foto-plk100_pravo"/>
          <p:cNvPicPr/>
          <p:nvPr/>
        </p:nvPicPr>
        <p:blipFill>
          <a:blip r:embed="rId2"/>
          <a:stretch/>
        </p:blipFill>
        <p:spPr>
          <a:xfrm>
            <a:off x="2179800" y="2852640"/>
            <a:ext cx="2525400" cy="23241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овен_лого"/>
          <p:cNvPicPr/>
          <p:nvPr/>
        </p:nvPicPr>
        <p:blipFill>
          <a:blip r:embed="rId3"/>
          <a:stretch/>
        </p:blipFill>
        <p:spPr>
          <a:xfrm>
            <a:off x="6686640" y="63360"/>
            <a:ext cx="2457360" cy="486000"/>
          </a:xfrm>
          <a:prstGeom prst="rect">
            <a:avLst/>
          </a:prstGeom>
          <a:ln w="0">
            <a:noFill/>
          </a:ln>
        </p:spPr>
      </p:pic>
      <p:grpSp>
        <p:nvGrpSpPr>
          <p:cNvPr id="111" name="Group 6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12" name="Rectangle 7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8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9"/>
          <p:cNvGrpSpPr/>
          <p:nvPr/>
        </p:nvGrpSpPr>
        <p:grpSpPr>
          <a:xfrm>
            <a:off x="0" y="0"/>
            <a:ext cx="620640" cy="6858000"/>
            <a:chOff x="0" y="0"/>
            <a:chExt cx="620640" cy="6858000"/>
          </a:xfrm>
        </p:grpSpPr>
        <p:sp>
          <p:nvSpPr>
            <p:cNvPr id="115" name="Rectangle 10"/>
            <p:cNvSpPr/>
            <p:nvPr/>
          </p:nvSpPr>
          <p:spPr>
            <a:xfrm rot="16200000">
              <a:off x="-3118320" y="3118680"/>
              <a:ext cx="6858000" cy="62064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1"/>
            <p:cNvSpPr/>
            <p:nvPr/>
          </p:nvSpPr>
          <p:spPr>
            <a:xfrm rot="16200000">
              <a:off x="-2902320" y="3224520"/>
              <a:ext cx="640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5f5f5f"/>
                  </a:solidFill>
                  <a:latin typeface="Arial"/>
                </a:rPr>
                <a:t>Программирование ОВЕН ПЛК в среде </a:t>
              </a:r>
              <a:r>
                <a:rPr b="1" i="1" lang="en-US" sz="1600" spc="-1" strike="noStrike">
                  <a:solidFill>
                    <a:srgbClr val="5f5f5f"/>
                  </a:solidFill>
                  <a:latin typeface="Arial"/>
                </a:rPr>
                <a:t>CoDeSys 2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2T06:52:08Z</dcterms:created>
  <dc:creator/>
  <dc:description/>
  <dc:language>en-US</dc:language>
  <cp:lastModifiedBy>User</cp:lastModifiedBy>
  <dcterms:modified xsi:type="dcterms:W3CDTF">2015-08-14T20:34:19Z</dcterms:modified>
  <cp:revision>58</cp:revision>
  <dc:subject/>
  <dc:title>NG-lab</dc:title>
</cp:coreProperties>
</file>