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871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49720" y="504360"/>
            <a:ext cx="3371760" cy="25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87480" y="3201840"/>
            <a:ext cx="7897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0368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92240" y="640368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9CFF-087C-442E-8426-9C7186365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5E50-F7BE-46B0-B145-A7E52478C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85DF-16EF-4CF7-A8F4-A841EE187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FC48-41DF-48A2-91C1-84BCD4FB87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C993-F24A-4B5F-ACEF-38896DDD3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4D33-E63B-4B1A-957F-14B34BC0AD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C850-A6A9-4C6A-8B7B-A10DA213F2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4BCE-AAAA-4639-B5CF-99B8339A9F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D854-6172-4689-A1B6-9151C12AD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312920" y="3212640"/>
            <a:ext cx="7246800" cy="30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1C22-C598-426F-ACAC-CD15C2B9A5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312920" y="3212640"/>
            <a:ext cx="7246800" cy="30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6028-4491-4E65-A497-AD99B3D50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312920" y="3212640"/>
            <a:ext cx="7246800" cy="30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9731-D2AF-48F5-A0BD-7DBD11409F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312920" y="3212640"/>
            <a:ext cx="7246800" cy="30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BB65-560F-412E-BCD0-4018614E79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2749-C738-4EA9-B0CE-2E36D6B53B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472E0-8089-486D-87DB-CE1CF80851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703E-47AE-478F-8284-1FFD72CE32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95D34-1321-4317-937D-F644845734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312920" y="3211200"/>
            <a:ext cx="7246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7975-0B9B-4854-BA52-CBB8A4822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8B4-C7F3-471B-9A61-48ADAC782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688-689F-48EF-B439-D631408D9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4D9F-F8D8-4A63-98FB-B0BB105D4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3576-EF40-4FD5-893E-C4C81701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A59-D632-4BA9-8FD4-5C702147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F7E-C3A2-4734-B7B1-C42A0CF1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347-F265-47CB-AC3A-CB2D9861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5D58-6B33-4327-81B7-C7083139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39B-FE62-4492-8440-2CE9CFDD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5782-8C4C-4773-8C29-248E8837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3C4-4B18-4F59-9A14-C4FCC888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152F-78D9-49DD-A213-85FA7B0A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F056-E2E4-4AD3-BCE1-900DF8008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support@owen.com.ua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79280" y="907920"/>
            <a:ext cx="867564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ОВЕН ПЛ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сред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Sys 2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знакомительный учебный курс (2 де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77120" y="5805360"/>
            <a:ext cx="6279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федра АХТС и ЭКМ НТУ «ХП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гиональный учебный центр компании О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foto-plk100_pravo"/>
          <p:cNvPicPr/>
          <p:nvPr/>
        </p:nvPicPr>
        <p:blipFill>
          <a:blip r:embed="rId2"/>
          <a:stretch/>
        </p:blipFill>
        <p:spPr>
          <a:xfrm>
            <a:off x="5148360" y="3789360"/>
            <a:ext cx="2736720" cy="232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plk110-32"/>
          <p:cNvPicPr/>
          <p:nvPr/>
        </p:nvPicPr>
        <p:blipFill>
          <a:blip r:embed="rId3"/>
          <a:stretch/>
        </p:blipFill>
        <p:spPr>
          <a:xfrm rot="495000">
            <a:off x="1547280" y="3644640"/>
            <a:ext cx="229896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28120"/>
            <a:ext cx="7772400" cy="5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етекторы фро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095480" y="1776240"/>
            <a:ext cx="3657600" cy="39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_TRI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передний фр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_TRI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 задний фро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 flipV="1">
            <a:off x="5683320" y="1331640"/>
            <a:ext cx="0" cy="230508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5284800" y="2496960"/>
            <a:ext cx="245916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7462080" y="2496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5549760" y="3443400"/>
            <a:ext cx="1335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5274000" y="3313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"/>
          <p:cNvSpPr/>
          <p:nvPr/>
        </p:nvSpPr>
        <p:spPr>
          <a:xfrm>
            <a:off x="5549760" y="2722680"/>
            <a:ext cx="13356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274000" y="2592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5683320" y="2278080"/>
            <a:ext cx="198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6613560" y="2278080"/>
            <a:ext cx="797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5881680" y="1557360"/>
            <a:ext cx="73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6613560" y="1557360"/>
            <a:ext cx="0" cy="720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5881680" y="1557360"/>
            <a:ext cx="0" cy="720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5549760" y="227808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5549760" y="155736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5274000" y="1427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5683320" y="3440160"/>
            <a:ext cx="198360" cy="324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5948280" y="3443400"/>
            <a:ext cx="146232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5881680" y="2744640"/>
            <a:ext cx="6660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5948280" y="2732040"/>
            <a:ext cx="0" cy="720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>
            <a:off x="5881680" y="2732040"/>
            <a:ext cx="0" cy="720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4"/>
          <p:cNvSpPr/>
          <p:nvPr/>
        </p:nvSpPr>
        <p:spPr>
          <a:xfrm>
            <a:off x="5274000" y="216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5"/>
          <p:cNvSpPr/>
          <p:nvPr/>
        </p:nvSpPr>
        <p:spPr>
          <a:xfrm>
            <a:off x="6628320" y="177336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ходной сиг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6607440" y="298116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ходной сиг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7"/>
          <p:cNvSpPr/>
          <p:nvPr/>
        </p:nvSpPr>
        <p:spPr>
          <a:xfrm flipV="1">
            <a:off x="5683320" y="4008600"/>
            <a:ext cx="0" cy="230472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8"/>
          <p:cNvSpPr/>
          <p:nvPr/>
        </p:nvSpPr>
        <p:spPr>
          <a:xfrm>
            <a:off x="5284800" y="5173560"/>
            <a:ext cx="245916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462080" y="5173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0"/>
          <p:cNvSpPr/>
          <p:nvPr/>
        </p:nvSpPr>
        <p:spPr>
          <a:xfrm>
            <a:off x="5549760" y="611964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5274000" y="59896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2"/>
          <p:cNvSpPr/>
          <p:nvPr/>
        </p:nvSpPr>
        <p:spPr>
          <a:xfrm>
            <a:off x="5549760" y="539892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3"/>
          <p:cNvSpPr/>
          <p:nvPr/>
        </p:nvSpPr>
        <p:spPr>
          <a:xfrm>
            <a:off x="5274000" y="5268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4"/>
          <p:cNvSpPr/>
          <p:nvPr/>
        </p:nvSpPr>
        <p:spPr>
          <a:xfrm>
            <a:off x="5683320" y="4960800"/>
            <a:ext cx="1983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5"/>
          <p:cNvSpPr/>
          <p:nvPr/>
        </p:nvSpPr>
        <p:spPr>
          <a:xfrm>
            <a:off x="6613560" y="4960800"/>
            <a:ext cx="79704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36"/>
          <p:cNvSpPr/>
          <p:nvPr/>
        </p:nvSpPr>
        <p:spPr>
          <a:xfrm>
            <a:off x="5881680" y="4240080"/>
            <a:ext cx="7318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7"/>
          <p:cNvSpPr/>
          <p:nvPr/>
        </p:nvSpPr>
        <p:spPr>
          <a:xfrm>
            <a:off x="6613560" y="4240080"/>
            <a:ext cx="0" cy="720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38"/>
          <p:cNvSpPr/>
          <p:nvPr/>
        </p:nvSpPr>
        <p:spPr>
          <a:xfrm>
            <a:off x="5881680" y="4240080"/>
            <a:ext cx="0" cy="720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9"/>
          <p:cNvSpPr/>
          <p:nvPr/>
        </p:nvSpPr>
        <p:spPr>
          <a:xfrm>
            <a:off x="5549760" y="495468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5549760" y="4233960"/>
            <a:ext cx="13356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1"/>
          <p:cNvSpPr/>
          <p:nvPr/>
        </p:nvSpPr>
        <p:spPr>
          <a:xfrm>
            <a:off x="5274000" y="41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2"/>
          <p:cNvSpPr/>
          <p:nvPr/>
        </p:nvSpPr>
        <p:spPr>
          <a:xfrm>
            <a:off x="5683320" y="6119640"/>
            <a:ext cx="93024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3"/>
          <p:cNvSpPr/>
          <p:nvPr/>
        </p:nvSpPr>
        <p:spPr>
          <a:xfrm>
            <a:off x="6678720" y="6122880"/>
            <a:ext cx="7318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44"/>
          <p:cNvSpPr/>
          <p:nvPr/>
        </p:nvSpPr>
        <p:spPr>
          <a:xfrm>
            <a:off x="6613560" y="5408640"/>
            <a:ext cx="6516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45"/>
          <p:cNvSpPr/>
          <p:nvPr/>
        </p:nvSpPr>
        <p:spPr>
          <a:xfrm>
            <a:off x="6678720" y="5396040"/>
            <a:ext cx="0" cy="720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6"/>
          <p:cNvSpPr/>
          <p:nvPr/>
        </p:nvSpPr>
        <p:spPr>
          <a:xfrm>
            <a:off x="6613560" y="5396040"/>
            <a:ext cx="0" cy="72072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7"/>
          <p:cNvSpPr/>
          <p:nvPr/>
        </p:nvSpPr>
        <p:spPr>
          <a:xfrm>
            <a:off x="5274000" y="4836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8"/>
          <p:cNvSpPr/>
          <p:nvPr/>
        </p:nvSpPr>
        <p:spPr>
          <a:xfrm>
            <a:off x="6620400" y="4456080"/>
            <a:ext cx="180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ходной сиг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9"/>
          <p:cNvSpPr/>
          <p:nvPr/>
        </p:nvSpPr>
        <p:spPr>
          <a:xfrm>
            <a:off x="6607440" y="565164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ходной сигн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0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56" name="Rectangle 5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2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четч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CTD"/>
          <p:cNvPicPr/>
          <p:nvPr/>
        </p:nvPicPr>
        <p:blipFill>
          <a:blip r:embed="rId1"/>
          <a:stretch/>
        </p:blipFill>
        <p:spPr>
          <a:xfrm>
            <a:off x="7229520" y="3068640"/>
            <a:ext cx="582480" cy="782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CTU"/>
          <p:cNvPicPr/>
          <p:nvPr/>
        </p:nvPicPr>
        <p:blipFill>
          <a:blip r:embed="rId2"/>
          <a:stretch/>
        </p:blipFill>
        <p:spPr>
          <a:xfrm>
            <a:off x="7229520" y="1916280"/>
            <a:ext cx="582480" cy="7826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961920" y="1557360"/>
            <a:ext cx="5900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крементируется по переднему фро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T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крементируется по переднему фро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T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крементируется или декрементируется по разным вхо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TUD"/>
          <p:cNvPicPr/>
          <p:nvPr/>
        </p:nvPicPr>
        <p:blipFill>
          <a:blip r:embed="rId3"/>
          <a:stretch/>
        </p:blipFill>
        <p:spPr>
          <a:xfrm>
            <a:off x="7229520" y="4076640"/>
            <a:ext cx="582480" cy="782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овен_лого"/>
          <p:cNvPicPr/>
          <p:nvPr/>
        </p:nvPicPr>
        <p:blipFill>
          <a:blip r:embed="rId4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64" name="Group 11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65" name="Rectangle 12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13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1" dur="25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03440" y="30456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Временные типы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611280" y="1341360"/>
            <a:ext cx="8353080" cy="4465800"/>
            <a:chOff x="611280" y="1341360"/>
            <a:chExt cx="8353080" cy="4465800"/>
          </a:xfrm>
        </p:grpSpPr>
        <p:grpSp>
          <p:nvGrpSpPr>
            <p:cNvPr id="169" name="Group 4"/>
            <p:cNvGrpSpPr/>
            <p:nvPr/>
          </p:nvGrpSpPr>
          <p:grpSpPr>
            <a:xfrm>
              <a:off x="617040" y="1343880"/>
              <a:ext cx="8340480" cy="4459680"/>
              <a:chOff x="617040" y="1343880"/>
              <a:chExt cx="8340480" cy="4459680"/>
            </a:xfrm>
          </p:grpSpPr>
          <p:grpSp>
            <p:nvGrpSpPr>
              <p:cNvPr id="170" name="Group 5"/>
              <p:cNvGrpSpPr/>
              <p:nvPr/>
            </p:nvGrpSpPr>
            <p:grpSpPr>
              <a:xfrm>
                <a:off x="617040" y="1343880"/>
                <a:ext cx="2330280" cy="404280"/>
                <a:chOff x="617040" y="1343880"/>
                <a:chExt cx="2330280" cy="404280"/>
              </a:xfrm>
            </p:grpSpPr>
            <p:sp>
              <p:nvSpPr>
                <p:cNvPr id="171" name="Rectangle 6"/>
                <p:cNvSpPr/>
                <p:nvPr/>
              </p:nvSpPr>
              <p:spPr>
                <a:xfrm>
                  <a:off x="704880" y="1343880"/>
                  <a:ext cx="2154600" cy="40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 Unicode MS"/>
                      <a:ea typeface="Times New Roman"/>
                    </a:rPr>
                    <a:t>Тип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7"/>
                <p:cNvSpPr/>
                <p:nvPr/>
              </p:nvSpPr>
              <p:spPr>
                <a:xfrm>
                  <a:off x="617040" y="1343880"/>
                  <a:ext cx="2330280" cy="40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8"/>
              <p:cNvGrpSpPr/>
              <p:nvPr/>
            </p:nvGrpSpPr>
            <p:grpSpPr>
              <a:xfrm>
                <a:off x="2947680" y="1343880"/>
                <a:ext cx="2518200" cy="404280"/>
                <a:chOff x="2947680" y="1343880"/>
                <a:chExt cx="2518200" cy="404280"/>
              </a:xfrm>
            </p:grpSpPr>
            <p:sp>
              <p:nvSpPr>
                <p:cNvPr id="174" name="Rectangle 9"/>
                <p:cNvSpPr/>
                <p:nvPr/>
              </p:nvSpPr>
              <p:spPr>
                <a:xfrm>
                  <a:off x="3035520" y="1343880"/>
                  <a:ext cx="2342520" cy="40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Arial Unicode MS"/>
                      <a:ea typeface="Times New Roman"/>
                    </a:rPr>
                    <a:t>Описание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0"/>
                <p:cNvSpPr/>
                <p:nvPr/>
              </p:nvSpPr>
              <p:spPr>
                <a:xfrm>
                  <a:off x="2947680" y="1343880"/>
                  <a:ext cx="2518200" cy="40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6" name="Group 11"/>
              <p:cNvGrpSpPr/>
              <p:nvPr/>
            </p:nvGrpSpPr>
            <p:grpSpPr>
              <a:xfrm>
                <a:off x="5466240" y="1343880"/>
                <a:ext cx="3491280" cy="404280"/>
                <a:chOff x="5466240" y="1343880"/>
                <a:chExt cx="3491280" cy="404280"/>
              </a:xfrm>
            </p:grpSpPr>
            <p:sp>
              <p:nvSpPr>
                <p:cNvPr id="177" name="Rectangle 12"/>
                <p:cNvSpPr/>
                <p:nvPr/>
              </p:nvSpPr>
              <p:spPr>
                <a:xfrm>
                  <a:off x="5553360" y="1343880"/>
                  <a:ext cx="3315960" cy="40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ff0000"/>
                      </a:solidFill>
                      <a:latin typeface="Times New Roman"/>
                    </a:rPr>
                    <a:t>Пример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Rectangle 13"/>
                <p:cNvSpPr/>
                <p:nvPr/>
              </p:nvSpPr>
              <p:spPr>
                <a:xfrm>
                  <a:off x="5466240" y="1343880"/>
                  <a:ext cx="3491280" cy="40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9" name="Group 14"/>
              <p:cNvGrpSpPr/>
              <p:nvPr/>
            </p:nvGrpSpPr>
            <p:grpSpPr>
              <a:xfrm>
                <a:off x="617040" y="1748160"/>
                <a:ext cx="2330280" cy="1013760"/>
                <a:chOff x="617040" y="1748160"/>
                <a:chExt cx="2330280" cy="1013760"/>
              </a:xfrm>
            </p:grpSpPr>
            <p:sp>
              <p:nvSpPr>
                <p:cNvPr id="180" name="Rectangle 15"/>
                <p:cNvSpPr/>
                <p:nvPr/>
              </p:nvSpPr>
              <p:spPr>
                <a:xfrm>
                  <a:off x="704880" y="1748160"/>
                  <a:ext cx="215460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IM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Rectangle 16"/>
                <p:cNvSpPr/>
                <p:nvPr/>
              </p:nvSpPr>
              <p:spPr>
                <a:xfrm>
                  <a:off x="617040" y="1748160"/>
                  <a:ext cx="233028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7"/>
              <p:cNvGrpSpPr/>
              <p:nvPr/>
            </p:nvGrpSpPr>
            <p:grpSpPr>
              <a:xfrm>
                <a:off x="2947680" y="1748160"/>
                <a:ext cx="2518200" cy="1013760"/>
                <a:chOff x="2947680" y="1748160"/>
                <a:chExt cx="2518200" cy="1013760"/>
              </a:xfrm>
            </p:grpSpPr>
            <p:sp>
              <p:nvSpPr>
                <p:cNvPr id="183" name="Rectangle 18"/>
                <p:cNvSpPr/>
                <p:nvPr/>
              </p:nvSpPr>
              <p:spPr>
                <a:xfrm>
                  <a:off x="3035520" y="1748160"/>
                  <a:ext cx="234252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пользуются для выражения интервалов времени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19"/>
                <p:cNvSpPr/>
                <p:nvPr/>
              </p:nvSpPr>
              <p:spPr>
                <a:xfrm>
                  <a:off x="2947680" y="1748160"/>
                  <a:ext cx="251820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Group 20"/>
              <p:cNvGrpSpPr/>
              <p:nvPr/>
            </p:nvGrpSpPr>
            <p:grpSpPr>
              <a:xfrm>
                <a:off x="5466240" y="1748160"/>
                <a:ext cx="3491280" cy="1013760"/>
                <a:chOff x="5466240" y="1748160"/>
                <a:chExt cx="3491280" cy="1013760"/>
              </a:xfrm>
            </p:grpSpPr>
            <p:sp>
              <p:nvSpPr>
                <p:cNvPr id="186" name="Rectangle 21"/>
                <p:cNvSpPr/>
                <p:nvPr/>
              </p:nvSpPr>
              <p:spPr>
                <a:xfrm>
                  <a:off x="5553360" y="1748160"/>
                  <a:ext cx="331596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1:=T#5h45m10s9m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2:=T#100m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Rectangle 22"/>
                <p:cNvSpPr/>
                <p:nvPr/>
              </p:nvSpPr>
              <p:spPr>
                <a:xfrm>
                  <a:off x="5466240" y="1748160"/>
                  <a:ext cx="349128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Group 23"/>
              <p:cNvGrpSpPr/>
              <p:nvPr/>
            </p:nvGrpSpPr>
            <p:grpSpPr>
              <a:xfrm>
                <a:off x="617040" y="2761920"/>
                <a:ext cx="2330280" cy="866160"/>
                <a:chOff x="617040" y="2761920"/>
                <a:chExt cx="2330280" cy="866160"/>
              </a:xfrm>
            </p:grpSpPr>
            <p:sp>
              <p:nvSpPr>
                <p:cNvPr id="189" name="Rectangle 24"/>
                <p:cNvSpPr/>
                <p:nvPr/>
              </p:nvSpPr>
              <p:spPr>
                <a:xfrm>
                  <a:off x="704880" y="2761920"/>
                  <a:ext cx="215460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AT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25"/>
                <p:cNvSpPr/>
                <p:nvPr/>
              </p:nvSpPr>
              <p:spPr>
                <a:xfrm>
                  <a:off x="617040" y="2761920"/>
                  <a:ext cx="233028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Group 26"/>
              <p:cNvGrpSpPr/>
              <p:nvPr/>
            </p:nvGrpSpPr>
            <p:grpSpPr>
              <a:xfrm>
                <a:off x="2947680" y="2761920"/>
                <a:ext cx="2518200" cy="866160"/>
                <a:chOff x="2947680" y="2761920"/>
                <a:chExt cx="2518200" cy="866160"/>
              </a:xfrm>
            </p:grpSpPr>
            <p:sp>
              <p:nvSpPr>
                <p:cNvPr id="192" name="Rectangle 27"/>
                <p:cNvSpPr/>
                <p:nvPr/>
              </p:nvSpPr>
              <p:spPr>
                <a:xfrm>
                  <a:off x="3035520" y="2761920"/>
                  <a:ext cx="234252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пользуются для выражения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даты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28"/>
                <p:cNvSpPr/>
                <p:nvPr/>
              </p:nvSpPr>
              <p:spPr>
                <a:xfrm>
                  <a:off x="2947680" y="2761920"/>
                  <a:ext cx="251820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Group 29"/>
              <p:cNvGrpSpPr/>
              <p:nvPr/>
            </p:nvGrpSpPr>
            <p:grpSpPr>
              <a:xfrm>
                <a:off x="5466240" y="2761920"/>
                <a:ext cx="3491280" cy="866160"/>
                <a:chOff x="5466240" y="2761920"/>
                <a:chExt cx="3491280" cy="866160"/>
              </a:xfrm>
            </p:grpSpPr>
            <p:sp>
              <p:nvSpPr>
                <p:cNvPr id="195" name="Rectangle 30"/>
                <p:cNvSpPr/>
                <p:nvPr/>
              </p:nvSpPr>
              <p:spPr>
                <a:xfrm>
                  <a:off x="5553360" y="2761920"/>
                  <a:ext cx="3315960" cy="86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ATE#1996-05-06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#1972-03-29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Rectangle 31"/>
                <p:cNvSpPr/>
                <p:nvPr/>
              </p:nvSpPr>
              <p:spPr>
                <a:xfrm>
                  <a:off x="5466240" y="2761920"/>
                  <a:ext cx="3491280" cy="86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Group 32"/>
              <p:cNvGrpSpPr/>
              <p:nvPr/>
            </p:nvGrpSpPr>
            <p:grpSpPr>
              <a:xfrm>
                <a:off x="617040" y="3628440"/>
                <a:ext cx="2330280" cy="1013760"/>
                <a:chOff x="617040" y="3628440"/>
                <a:chExt cx="2330280" cy="1013760"/>
              </a:xfrm>
            </p:grpSpPr>
            <p:sp>
              <p:nvSpPr>
                <p:cNvPr id="198" name="Rectangle 33"/>
                <p:cNvSpPr/>
                <p:nvPr/>
              </p:nvSpPr>
              <p:spPr>
                <a:xfrm>
                  <a:off x="704880" y="3628440"/>
                  <a:ext cx="215460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IME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F</a:t>
                  </a:r>
                  <a:r>
                    <a:rPr b="1" lang="ru-RU" sz="1800" spc="-1" strike="noStrike">
                      <a:solidFill>
                        <a:srgbClr val="000000"/>
                      </a:solidFill>
                      <a:latin typeface="Times New Roman"/>
                    </a:rPr>
                    <a:t>_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A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34"/>
                <p:cNvSpPr/>
                <p:nvPr/>
              </p:nvSpPr>
              <p:spPr>
                <a:xfrm>
                  <a:off x="617040" y="3628440"/>
                  <a:ext cx="233028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35"/>
              <p:cNvGrpSpPr/>
              <p:nvPr/>
            </p:nvGrpSpPr>
            <p:grpSpPr>
              <a:xfrm>
                <a:off x="2947680" y="3628440"/>
                <a:ext cx="2518200" cy="1013760"/>
                <a:chOff x="2947680" y="3628440"/>
                <a:chExt cx="2518200" cy="1013760"/>
              </a:xfrm>
            </p:grpSpPr>
            <p:sp>
              <p:nvSpPr>
                <p:cNvPr id="201" name="Rectangle 36"/>
                <p:cNvSpPr/>
                <p:nvPr/>
              </p:nvSpPr>
              <p:spPr>
                <a:xfrm>
                  <a:off x="3035520" y="3628440"/>
                  <a:ext cx="234252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пользуются для выражения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времени суток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37"/>
                <p:cNvSpPr/>
                <p:nvPr/>
              </p:nvSpPr>
              <p:spPr>
                <a:xfrm>
                  <a:off x="2947680" y="3628440"/>
                  <a:ext cx="251820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Group 38"/>
              <p:cNvGrpSpPr/>
              <p:nvPr/>
            </p:nvGrpSpPr>
            <p:grpSpPr>
              <a:xfrm>
                <a:off x="5466240" y="3628440"/>
                <a:ext cx="3491280" cy="1013760"/>
                <a:chOff x="5466240" y="3628440"/>
                <a:chExt cx="3491280" cy="1013760"/>
              </a:xfrm>
            </p:grpSpPr>
            <p:sp>
              <p:nvSpPr>
                <p:cNvPr id="204" name="Rectangle 39"/>
                <p:cNvSpPr/>
                <p:nvPr/>
              </p:nvSpPr>
              <p:spPr>
                <a:xfrm>
                  <a:off x="5553360" y="3628440"/>
                  <a:ext cx="3315960" cy="101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ME_OF_DAY#15:36:30.12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od#00:00: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40"/>
                <p:cNvSpPr/>
                <p:nvPr/>
              </p:nvSpPr>
              <p:spPr>
                <a:xfrm>
                  <a:off x="5466240" y="3628440"/>
                  <a:ext cx="3491280" cy="101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Group 41"/>
              <p:cNvGrpSpPr/>
              <p:nvPr/>
            </p:nvGrpSpPr>
            <p:grpSpPr>
              <a:xfrm>
                <a:off x="617040" y="4642200"/>
                <a:ext cx="2330280" cy="1161360"/>
                <a:chOff x="617040" y="4642200"/>
                <a:chExt cx="2330280" cy="1161360"/>
              </a:xfrm>
            </p:grpSpPr>
            <p:sp>
              <p:nvSpPr>
                <p:cNvPr id="207" name="Rectangle 42"/>
                <p:cNvSpPr/>
                <p:nvPr/>
              </p:nvSpPr>
              <p:spPr>
                <a:xfrm>
                  <a:off x="704880" y="4642200"/>
                  <a:ext cx="215460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ATE_AND_TIM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43"/>
                <p:cNvSpPr/>
                <p:nvPr/>
              </p:nvSpPr>
              <p:spPr>
                <a:xfrm>
                  <a:off x="617040" y="4642200"/>
                  <a:ext cx="2330280" cy="116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Group 44"/>
              <p:cNvGrpSpPr/>
              <p:nvPr/>
            </p:nvGrpSpPr>
            <p:grpSpPr>
              <a:xfrm>
                <a:off x="2947680" y="4642200"/>
                <a:ext cx="2518200" cy="1161360"/>
                <a:chOff x="2947680" y="4642200"/>
                <a:chExt cx="2518200" cy="1161360"/>
              </a:xfrm>
            </p:grpSpPr>
            <p:sp>
              <p:nvSpPr>
                <p:cNvPr id="210" name="Rectangle 45"/>
                <p:cNvSpPr/>
                <p:nvPr/>
              </p:nvSpPr>
              <p:spPr>
                <a:xfrm>
                  <a:off x="3035520" y="4642200"/>
                  <a:ext cx="234252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спользуются для выражения </a:t>
                  </a:r>
                  <a:r>
                    <a:rPr b="1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даты и времени суток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46"/>
                <p:cNvSpPr/>
                <p:nvPr/>
              </p:nvSpPr>
              <p:spPr>
                <a:xfrm>
                  <a:off x="2947680" y="4642200"/>
                  <a:ext cx="2518200" cy="116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Group 47"/>
              <p:cNvGrpSpPr/>
              <p:nvPr/>
            </p:nvGrpSpPr>
            <p:grpSpPr>
              <a:xfrm>
                <a:off x="5466240" y="4642200"/>
                <a:ext cx="3491280" cy="1161360"/>
                <a:chOff x="5466240" y="4642200"/>
                <a:chExt cx="3491280" cy="1161360"/>
              </a:xfrm>
            </p:grpSpPr>
            <p:sp>
              <p:nvSpPr>
                <p:cNvPr id="213" name="Rectangle 48"/>
                <p:cNvSpPr/>
                <p:nvPr/>
              </p:nvSpPr>
              <p:spPr>
                <a:xfrm>
                  <a:off x="5553360" y="4642200"/>
                  <a:ext cx="3315960" cy="11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ATE_AND_TIME#1996-05-06-15:36:3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t#1972-03-29-00:00:0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Rectangle 49"/>
                <p:cNvSpPr/>
                <p:nvPr/>
              </p:nvSpPr>
              <p:spPr>
                <a:xfrm>
                  <a:off x="5466240" y="4642200"/>
                  <a:ext cx="3491280" cy="116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Rectangle 50"/>
            <p:cNvSpPr/>
            <p:nvPr/>
          </p:nvSpPr>
          <p:spPr>
            <a:xfrm>
              <a:off x="611280" y="1341360"/>
              <a:ext cx="8353080" cy="4465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Picture 51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17" name="Group 5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18" name="Rectangle 5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6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4" dur="250" autoRev="1" fill="hold"/>
                                        <p:tgtEl>
                                          <p:spTgt spid="2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03440" y="1277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асы реального времен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TC</a:t>
            </a: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ункциональный блок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считывает текущее время и дату, начиная от заданной точк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ри этом ПЛК должен работать постоя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234792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235584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235584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236520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rcRect l="13288" t="63505" r="53150" b="25654"/>
          <a:stretch/>
        </p:blipFill>
        <p:spPr>
          <a:xfrm>
            <a:off x="1258920" y="3449520"/>
            <a:ext cx="6856560" cy="1779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27" name="Group 12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28" name="Rectangle 13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14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25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1895400" y="2014560"/>
            <a:ext cx="5810400" cy="42465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3"/>
          <p:cNvGraphicFramePr/>
          <p:nvPr/>
        </p:nvGraphicFramePr>
        <p:xfrm>
          <a:off x="2050920" y="2133720"/>
          <a:ext cx="5481720" cy="39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133720"/>
                    <a:ext cx="54817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4"/>
          <p:cNvSpPr/>
          <p:nvPr/>
        </p:nvSpPr>
        <p:spPr>
          <a:xfrm>
            <a:off x="534960" y="1309680"/>
            <a:ext cx="790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рирует импульс заданной дл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03440" y="698040"/>
            <a:ext cx="773712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аймер 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T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37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1882800" y="2014560"/>
            <a:ext cx="5808600" cy="42465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3"/>
          <p:cNvGraphicFramePr/>
          <p:nvPr/>
        </p:nvGraphicFramePr>
        <p:xfrm>
          <a:off x="2066760" y="2131920"/>
          <a:ext cx="5500800" cy="398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2131920"/>
                    <a:ext cx="5500800" cy="39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4"/>
          <p:cNvSpPr/>
          <p:nvPr/>
        </p:nvSpPr>
        <p:spPr>
          <a:xfrm>
            <a:off x="568440" y="1008000"/>
            <a:ext cx="789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лючает выход с задержкой по переднему фро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03440" y="25992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аймер 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TON 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46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250" autoRev="1" fill="hold"/>
                                        <p:tgtEl>
                                          <p:spTgt spid="2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852480" y="1084320"/>
            <a:ext cx="760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ыключает выход с задержкой по заднему фрон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1817640" y="2014560"/>
            <a:ext cx="5808600" cy="42465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1990800" y="2100240"/>
          <a:ext cx="54925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0800" y="2100240"/>
                    <a:ext cx="54925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3440" y="188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аймер </a:t>
            </a:r>
            <a:r>
              <a:rPr b="0" lang="de-DE" sz="3200" spc="-1" strike="noStrike">
                <a:solidFill>
                  <a:srgbClr val="000000"/>
                </a:solidFill>
                <a:latin typeface="Arial Black"/>
              </a:rPr>
              <a:t>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54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55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250" autoRev="1" fill="hold"/>
                                        <p:tgtEl>
                                          <p:spTgt spid="2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611280" y="779400"/>
            <a:ext cx="8229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Управление включением оборуд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684360" y="2638440"/>
            <a:ext cx="4537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нажатии на кнопк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k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ь должен включится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работать 10 секунд, за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втоматически отклю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подсчит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включ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игат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61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3" name="Picture 13" descr=""/>
          <p:cNvPicPr/>
          <p:nvPr/>
        </p:nvPicPr>
        <p:blipFill>
          <a:blip r:embed="rId2"/>
          <a:stretch/>
        </p:blipFill>
        <p:spPr>
          <a:xfrm>
            <a:off x="4716360" y="2205000"/>
            <a:ext cx="424836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2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561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бота с библиотечными функциональными блокам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156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хранит исходники ФБ, в проекте используются экземпляры этих исходных Ф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и тот же ФБ в проекте может иметь несколько экземпляров, работающих одинаково и независимо друг от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экземпляр должен иметь уникальное имя (как и любая переменна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земляр ФБ объявляется аналогично тому, как это делается с локальными переме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6156360" y="1484280"/>
            <a:ext cx="1704960" cy="10382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6" descr=""/>
          <p:cNvPicPr/>
          <p:nvPr/>
        </p:nvPicPr>
        <p:blipFill>
          <a:blip r:embed="rId2"/>
          <a:stretch/>
        </p:blipFill>
        <p:spPr>
          <a:xfrm>
            <a:off x="7236000" y="2276640"/>
            <a:ext cx="1704960" cy="10382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"/>
          <p:cNvPicPr/>
          <p:nvPr/>
        </p:nvPicPr>
        <p:blipFill>
          <a:blip r:embed="rId3"/>
          <a:stretch/>
        </p:blipFill>
        <p:spPr>
          <a:xfrm>
            <a:off x="5508720" y="2492280"/>
            <a:ext cx="1704960" cy="10382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8" descr=""/>
          <p:cNvPicPr/>
          <p:nvPr/>
        </p:nvPicPr>
        <p:blipFill>
          <a:blip r:embed="rId4"/>
          <a:stretch/>
        </p:blipFill>
        <p:spPr>
          <a:xfrm>
            <a:off x="6084720" y="4365720"/>
            <a:ext cx="2808360" cy="235260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9"/>
          <p:cNvSpPr/>
          <p:nvPr/>
        </p:nvSpPr>
        <p:spPr>
          <a:xfrm>
            <a:off x="6084720" y="4365720"/>
            <a:ext cx="280836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0" descr="овен_лого"/>
          <p:cNvPicPr/>
          <p:nvPr/>
        </p:nvPicPr>
        <p:blipFill>
          <a:blip r:embed="rId5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11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73" name="Rectangle 12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3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25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14" descr=""/>
          <p:cNvPicPr/>
          <p:nvPr/>
        </p:nvPicPr>
        <p:blipFill>
          <a:blip r:embed="rId1"/>
          <a:stretch/>
        </p:blipFill>
        <p:spPr>
          <a:xfrm>
            <a:off x="5364000" y="4508640"/>
            <a:ext cx="3543480" cy="199044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69840" y="333000"/>
            <a:ext cx="561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Работа с библиотечными функциональными блоками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17560" y="1815840"/>
            <a:ext cx="533880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кается в рамках одного цикла ПЛК несколько раз обращаться одному и тому же экземпляру Ф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этом в конце цикла учитываются изменения, произведенные при последнем вызове экземпля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"/>
          <p:cNvSpPr/>
          <p:nvPr/>
        </p:nvSpPr>
        <p:spPr>
          <a:xfrm>
            <a:off x="5364000" y="4508640"/>
            <a:ext cx="3529080" cy="20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9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81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2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создании нового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55520" y="2071800"/>
            <a:ext cx="71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фай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вашего ПЛ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главную программ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C_P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 цик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1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необходим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57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63480" y="5425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Управление освещением в комн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725400" y="1077480"/>
            <a:ext cx="77342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 в комнате остается хотя бы один человек, свет долж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ть вклю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 выхода последнего человека свет гаснет автоматичес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 секу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86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87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9" name="Picture 8" descr=""/>
          <p:cNvPicPr/>
          <p:nvPr/>
        </p:nvPicPr>
        <p:blipFill>
          <a:blip r:embed="rId2"/>
          <a:stretch/>
        </p:blipFill>
        <p:spPr>
          <a:xfrm>
            <a:off x="2484360" y="3429000"/>
            <a:ext cx="471672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8" dur="250" autoRev="1" fill="hold"/>
                                        <p:tgtEl>
                                          <p:spTgt spid="2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765000"/>
            <a:ext cx="6769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ключение библиот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92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93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Picture 11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5238720" cy="3514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9" descr=""/>
          <p:cNvPicPr/>
          <p:nvPr/>
        </p:nvPicPr>
        <p:blipFill>
          <a:blip r:embed="rId3"/>
          <a:stretch/>
        </p:blipFill>
        <p:spPr>
          <a:xfrm>
            <a:off x="5580000" y="4076640"/>
            <a:ext cx="315288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1" dur="250" autoRev="1" fill="hold"/>
                                        <p:tgtEl>
                                          <p:spTgt spid="2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191628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каждой пары типов данных используется отдельный оператор. В названии оператора сначала указывается исходный тип данных, а затем тип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09200" y="790200"/>
            <a:ext cx="597852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ператоры преобразования типов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"/>
          <a:stretch/>
        </p:blipFill>
        <p:spPr>
          <a:xfrm>
            <a:off x="4572000" y="3357720"/>
            <a:ext cx="4465800" cy="33001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02" name="Rectangle 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9" descr=""/>
          <p:cNvPicPr/>
          <p:nvPr/>
        </p:nvPicPr>
        <p:blipFill>
          <a:blip r:embed="rId3"/>
          <a:stretch/>
        </p:blipFill>
        <p:spPr>
          <a:xfrm>
            <a:off x="755640" y="4149720"/>
            <a:ext cx="36576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4" dur="250" autoRev="1" fill="hold"/>
                                        <p:tgtEl>
                                          <p:spTgt spid="3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. Формирование импуль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64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менении сигнала на аналоговом входе необходимо изменять скважность выходных импульсов в диапазоне от 15 до 50 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3200400" cy="2962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09" name="Group 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10" name="Rectangle 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7" dur="25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1031760" y="1147680"/>
            <a:ext cx="760752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&lt; FUNCTION &gt;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один или более входов, один выход, рекурсии не допусти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ональный блок: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&lt;FUNCTION_BLOCK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произвольное число входов и выходов. Имеет внутреннюю память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функционального блока можно объявить несколько экземпля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GB" sz="2400" spc="-1" strike="noStrike">
                <a:solidFill>
                  <a:srgbClr val="3333cc"/>
                </a:solidFill>
                <a:latin typeface="Courier New"/>
              </a:rPr>
              <a:t>&lt; PROGRAM 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обна функциональному блоку, но имеет один глобальный экземпля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03440" y="188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Типы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P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16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3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Функ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826920" y="1197000"/>
            <a:ext cx="547380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меет внутренней памя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кальные переменные инициализируются при каждом выз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возвращает значение, через свой идентификато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ункция имеет тип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добна для реализации комплексных вычисл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рекомендуется использование глобальных переменных в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21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22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8" descr=""/>
          <p:cNvPicPr/>
          <p:nvPr/>
        </p:nvPicPr>
        <p:blipFill>
          <a:blip r:embed="rId2"/>
          <a:stretch/>
        </p:blipFill>
        <p:spPr>
          <a:xfrm>
            <a:off x="6732720" y="3068640"/>
            <a:ext cx="1892160" cy="11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3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9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91920" y="4442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Функциональный б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925560" y="1409760"/>
            <a:ext cx="595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еременные функционального блока сохраняют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создании экземпляра функционального блока создается новая копия переменных функционального блока. Копия кода функционального блока не созд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тся для программирования повторно используемого кода, например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етчиков, таймеров, триггеров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29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9" descr=""/>
          <p:cNvPicPr/>
          <p:nvPr/>
        </p:nvPicPr>
        <p:blipFill>
          <a:blip r:embed="rId2"/>
          <a:stretch/>
        </p:blipFill>
        <p:spPr>
          <a:xfrm>
            <a:off x="7020000" y="2133720"/>
            <a:ext cx="1733400" cy="252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6" dur="25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ограм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774720" y="1841400"/>
            <a:ext cx="8218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переменные сохраняют свои зна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ется для структурирования прило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36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5280" y="11966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Все программные компоненты должны вызываться прямо или косвенно из главной 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C_P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41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3" name="Picture 8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5162760" cy="35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2" dur="250" autoRev="1" fill="hold"/>
                                        <p:tgtEl>
                                          <p:spTgt spid="3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77680" y="51552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: автоматический ввод резер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3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47" name="Rectangle 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 Box 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9" name="Picture 8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616200" cy="282096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9"/>
          <p:cNvSpPr/>
          <p:nvPr/>
        </p:nvSpPr>
        <p:spPr>
          <a:xfrm>
            <a:off x="755640" y="2492280"/>
            <a:ext cx="432108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объекте 2 группы насосов, по 2 насоса в каждой группе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аждой группе один насос рабочий, второй в резерве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срабатывают любые 2 из 3-х технологических датчиков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о необходимо переключить насосы в каждой группе с работающего на резерв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5" dur="250" autoRev="1" fill="hold"/>
                                        <p:tgtEl>
                                          <p:spTgt spid="3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1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3480" y="4046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. Управление освещением в комна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5400" y="1077480"/>
            <a:ext cx="77342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входе установлены два дискретных датчика: один снаруж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внутри комн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рабатывает сначала внешний датчик, за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й, это означает, что человек зашел в комна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рабатывает сначала внутренний датчик, зат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шний, это означает, что человек вышел из комн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счит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ичество людей в комна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человек вошел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ить свет, если челове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шел – выключить 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 в комнате оста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тя бы один человек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ет должен быть включ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63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8" descr=""/>
          <p:cNvPicPr/>
          <p:nvPr/>
        </p:nvPicPr>
        <p:blipFill>
          <a:blip r:embed="rId2"/>
          <a:stretch/>
        </p:blipFill>
        <p:spPr>
          <a:xfrm>
            <a:off x="4319640" y="3716280"/>
            <a:ext cx="471636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здание собственной библиоте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54" name="Rectangle 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8" descr=""/>
          <p:cNvPicPr/>
          <p:nvPr/>
        </p:nvPicPr>
        <p:blipFill>
          <a:blip r:embed="rId2"/>
          <a:stretch/>
        </p:blipFill>
        <p:spPr>
          <a:xfrm>
            <a:off x="2700360" y="2133720"/>
            <a:ext cx="4210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8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77680" y="51552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. Система пожарной сигнализации 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60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2" name="Picture 12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6481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1" dur="250" autoRev="1" fill="hold"/>
                                        <p:tgtEl>
                                          <p:spTgt spid="3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мер. Система пожарной сигнализации зд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00000" y="1552680"/>
            <a:ext cx="8190000" cy="51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здании две одинаковые комнат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ждой комнате установлено три пожарных датчика, кнопка ручного включения сигнализации и кнопка ручного отключения сигнализации. Для каждой комнаты предусмотрена сигнальная лампа. Сигнализация пожара является общей для обеих комна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 комнате срабатывает хотя бы один из датчиков, то загорается сигнальная лампа для соответствующей комнаты. Лампа гаснет, если все датчики в комнате отключе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Если в комнате срабатывает любые два из трех датчиков, то включается пожарная сигнализация. Сигнализация работает до тех пор, пока ее не отключат соответствующей кноп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игнализация может быть включена кнопкой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верки вне зависимости от состояния датч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66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67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4" dur="250" autoRev="1" fill="hold"/>
                                        <p:tgtEl>
                                          <p:spTgt spid="3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43444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900000" y="2133720"/>
            <a:ext cx="4967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МВА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МДВ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МИ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ИП-3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ТРМ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ПМ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ководство МСД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72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73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8" descr="petrov_book"/>
          <p:cNvPicPr/>
          <p:nvPr/>
        </p:nvPicPr>
        <p:blipFill>
          <a:blip r:embed="rId2"/>
          <a:stretch/>
        </p:blipFill>
        <p:spPr>
          <a:xfrm>
            <a:off x="6300720" y="3141720"/>
            <a:ext cx="2060640" cy="308772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6229440" y="3070080"/>
            <a:ext cx="2158920" cy="324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0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7" dur="250" autoRev="1" fill="hold"/>
                                        <p:tgtEl>
                                          <p:spTgt spid="3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3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092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4400" y="2204640"/>
            <a:ext cx="7905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codesys.r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ь в СН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«Проло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owen.ua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сайт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ОО «ВО ОВЕН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. Хар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upport@owen.u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ческая поддержка О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4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80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81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0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ex-in"/>
          <p:cNvPicPr/>
          <p:nvPr/>
        </p:nvPicPr>
        <p:blipFill>
          <a:blip r:embed="rId1"/>
          <a:stretch/>
        </p:blipFill>
        <p:spPr>
          <a:xfrm>
            <a:off x="1116000" y="1125360"/>
            <a:ext cx="6953400" cy="5534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55520" y="2743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. Управление освещением в комн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70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" dur="250" autoRev="1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92080" y="901440"/>
            <a:ext cx="76773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Операторы для работы с числам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с плавающей запятой</a:t>
            </a:r>
            <a:r>
              <a:rPr b="1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ип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619280" y="2133720"/>
          <a:ext cx="6769080" cy="3579840"/>
        </p:xfrm>
        <a:graphic>
          <a:graphicData uri="http://schemas.openxmlformats.org/drawingml/2006/table">
            <a:tbl>
              <a:tblPr/>
              <a:tblGrid>
                <a:gridCol w="1436760"/>
                <a:gridCol w="3103560"/>
                <a:gridCol w="2228760"/>
              </a:tblGrid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BS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12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if A = -12.0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N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 TRUNC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4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if A = 4.32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 EXPT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,3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</a:t>
                      </a:r>
                      <a:r>
                        <a:rPr b="1" i="1" lang="ru-RU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8</a:t>
                      </a: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if A = 2 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SQRT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5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if A = 25 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58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76" name="Rectangle 6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6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Picture 62" descr=""/>
          <p:cNvPicPr/>
          <p:nvPr/>
        </p:nvPicPr>
        <p:blipFill>
          <a:blip r:embed="rId2"/>
          <a:stretch/>
        </p:blipFill>
        <p:spPr>
          <a:xfrm>
            <a:off x="3419640" y="2708280"/>
            <a:ext cx="25524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25200" y="863640"/>
            <a:ext cx="76676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Логарифмические операторы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879480" y="1778040"/>
            <a:ext cx="759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числение логарифмов и экспон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249200" y="3068640"/>
          <a:ext cx="7139160" cy="2930400"/>
        </p:xfrm>
        <a:graphic>
          <a:graphicData uri="http://schemas.openxmlformats.org/drawingml/2006/table">
            <a:tbl>
              <a:tblPr/>
              <a:tblGrid>
                <a:gridCol w="1943280"/>
                <a:gridCol w="3106800"/>
                <a:gridCol w="2089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 EXP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Result = 7.389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  if A = 2  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N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2 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if A = 7.389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0316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OG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 Result = 3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de-DE" sz="12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( if A = 1000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2" name="Picture 54" descr=""/>
          <p:cNvPicPr/>
          <p:nvPr/>
        </p:nvPicPr>
        <p:blipFill>
          <a:blip r:embed="rId1"/>
          <a:stretch/>
        </p:blipFill>
        <p:spPr>
          <a:xfrm>
            <a:off x="3706920" y="3695760"/>
            <a:ext cx="2124000" cy="2171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5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85" name="Rectangle 5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5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14560" y="342720"/>
            <a:ext cx="7796160" cy="14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Тригонометрические операторы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03280" y="1700280"/>
          <a:ext cx="7043760" cy="4049640"/>
        </p:xfrm>
        <a:graphic>
          <a:graphicData uri="http://schemas.openxmlformats.org/drawingml/2006/table">
            <a:tbl>
              <a:tblPr/>
              <a:tblGrid>
                <a:gridCol w="1513080"/>
                <a:gridCol w="3371760"/>
                <a:gridCol w="2158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SIN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SIN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COS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COS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TAN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TAN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73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90" name="Group 7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91" name="Rectangle 7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7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107" descr=""/>
          <p:cNvPicPr/>
          <p:nvPr/>
        </p:nvPicPr>
        <p:blipFill>
          <a:blip r:embed="rId2"/>
          <a:stretch/>
        </p:blipFill>
        <p:spPr>
          <a:xfrm>
            <a:off x="3419640" y="2133720"/>
            <a:ext cx="22381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определенные блоки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блиотеки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758880" y="1938240"/>
            <a:ext cx="777384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иблиотека состоит из объектов, которые могут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ть использованы в различных проект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библиотеку могут входить программные компоненты, списки переменных, визуализации и п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ь может создавать и использов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бственные  библиоте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 библиотек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.l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til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98" name="Rectangle 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1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2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ндартная библиоте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ndard.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38560" y="2158560"/>
            <a:ext cx="43257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работы со стро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етекторы фро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четч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ай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04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250" autoRev="1" fill="hold"/>
                                        <p:tgtEl>
                                          <p:spTgt spid="10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6:52:08Z</dcterms:created>
  <dc:creator/>
  <dc:description/>
  <dc:language>en-US</dc:language>
  <cp:lastModifiedBy>User</cp:lastModifiedBy>
  <dcterms:modified xsi:type="dcterms:W3CDTF">2015-08-14T20:35:23Z</dcterms:modified>
  <cp:revision>80</cp:revision>
  <dc:subject/>
  <dc:title>NG-lab</dc:title>
</cp:coreProperties>
</file>